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0B2-7892-4A48-AA83-33D59ED8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05D-1D59-49B6-8A10-325B51B7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287-50D7-4497-B081-078F1856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7CC-2632-49C8-A379-F74C2B09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339A-0073-4C01-AB42-32F9600B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45A7-79B5-4A9A-BDDD-55A235BF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BE6B-E3BD-4C21-ABB8-72338EF3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11C-6D20-4EB1-824E-91FB26E4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DB2D-9626-48A5-95D9-4BFD895E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355A-F2CE-4D7C-9CD7-FFA7777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E043-A460-44A6-948B-3906967F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EDD-AA20-49A9-8D94-CF8C323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74B6-37C8-4634-9B70-0B66AF93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62E4-F5E9-4421-ABF7-E798472F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7B01-B886-42B5-9716-04600E57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14BE-1C57-418E-A810-CDB52C1E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0E66-C3F8-4F46-9030-CB0CAE72A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64DA-1CD4-43FF-A676-4672FCAD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A9F4-FE3B-473D-A1F6-783C6F45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2BFA-3275-486F-9583-5344EA7B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03D6-E50D-4C2D-8FC3-459C30EB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1C8A-C171-454B-8641-773CB273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617-5438-4722-BAE7-CEF7F487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C04C-F4C2-44A3-9403-5771113D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3E5F-E378-4E6E-AD81-CD433041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8492-FD22-418E-BAE8-9E4F001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39AD-E609-44B1-A891-300F02DF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C4AA-5AFD-4FDB-9482-4CBCE2B3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24FF-2843-485F-AA14-01B5CB89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7B78-8D74-4CE0-99DB-7F198059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BF148-8ED9-47BC-BB9B-A0D5DDAD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7B2F-D549-4230-83DA-F61F925D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7415B-98E1-4101-AB46-CD100825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5DC4-9936-443D-847F-F8E127D8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F668-466A-4E76-AF7C-920C49B8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DE180-0025-4BAC-ABE7-879A4681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24A7-D4F9-4207-B5BE-5990CC8F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93F18-B0D9-4257-9CC7-097F9CCE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37097-1CB2-466A-82D0-DBB53320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AE256-35E7-4B35-8EA3-BE850361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8D5E2-72B3-4399-83DE-AFB5AFBC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BC913-3614-419F-8C5B-5F647B08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E888E-A2BB-4F39-8100-AD1CF538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585CA-A6AB-4277-ACCE-9B960426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050-802F-48EA-9A5D-56161554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2530F-35CB-4C0F-96A3-4E7B1DAD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8B121-28BD-4402-AD62-CE7F7124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F29F7-8BE7-4A90-92D4-79990EBE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E41EC-1CEF-416D-A3E8-E90678D8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FB689-0F33-4B67-B546-505ECA79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78BE8-92EA-43A5-B0B3-7A6F2875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96AA7-3F93-4F6A-A1BE-1E855B34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21295-6D5B-4BFE-AE7D-3FEAFBEF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EA074-2786-40EF-8834-D0D561BE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5D1E0-A268-4BAD-B7C7-21B4F0F3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DA2-01B0-484D-BEFD-98A27C84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CFE47-5A11-4AC9-84E0-96B1FA82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4D5-90E3-4CAF-8B03-A064E984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3DE-AD12-4B3F-9A31-ED74C0A6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D54-AD56-4F64-82E1-C15CBB8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6E8C-157A-43E6-AF69-706FD222479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514D-E188-43B4-A6E9-11A94678CB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7252-1B49-4185-8967-78908865514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4744-2376-4DF5-A595-E743E0860FF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8172-FBE5-4838-81F0-92A739BC3A1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Cambria"/>
              </a:rPr>
              <a:t>проф. др Марина J. Кости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рганизација здравствених систе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 оквиру функционисања и управљања здравственим системима значајан сегмент заузима и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финансирање здравствених услуг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уз неопходност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адекватне алокације средстава како би се постигла рационална и квалитетна примена здравствене заштит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нцепт финансирања здравственог система јесте одређен карактеристикама региона у оквиру којег систем егзистира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Главни ресурси финансирања здравствених систем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обухватају: средства из државног буџета (порези), средства из фонда осигурања које можебити обавезно (доприноси) или добровољно (приватно), партиципације (средства које осигураник издваја за пружене здравствене услуге), пуне цене услуга (трошкови лечења у условима приватне праксе), као и средства пореклом из донација и добровољних прилог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Здравље</a:t>
            </a:r>
            <a:br>
              <a:rPr sz="3200"/>
            </a:b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O 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„Не само одсуство болести и оронулости, већ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као стање потпуног физичког, психичког и социјалног благостањ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„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пособност живљења у околностима који су одговарајући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ндивидуалним и друштвеним циљевима појединц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“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Детерминанте политичке природе – здравствена политика, начин уређења, организације и финансирања здравственог система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Детерминанте економске природе – утицај глобалних и локалних економских фактор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Детерминанте из околине – степен чистоће воде, ваздуха, земљишта, хране... степен безбедности...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mbria"/>
              </a:rPr>
              <a:t>Културолшке детерминанте – ставови, вредности, уверења различитих заједница ..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оцијалне детерминанте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фактори друштвене и психолошке природе ..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Детерминанте проистекле из нави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Индивидуалне детерминанте – генетски фактори, старост, пол....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Здравље</a:t>
            </a:r>
            <a:br>
              <a:rPr sz="3200"/>
            </a:b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"Some 95% of the trillions of dollars the US spends on health care goes to direct medical services and just 5% to population-wide approaches to health improvement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Здравље</a:t>
            </a:r>
            <a:br>
              <a:rPr sz="3200"/>
            </a:br>
            <a:r>
              <a:rPr b="0" lang="en-US" sz="32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Генетске предоспозиције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30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Друштвене околности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15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Фактори околине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5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тил живота и навике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40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едицинска нега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10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Calibri"/>
              </a:rPr>
              <a:t>Здравље</a:t>
            </a:r>
            <a:br>
              <a:rPr sz="2800"/>
            </a:br>
            <a:r>
              <a:rPr b="0" lang="en-US" sz="28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Генетске предоспозиције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 30%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Конзумирање цигаре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Конзумирање алкохол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Гојаз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мањена физичка активност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Неадекватна исхра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6464"/>
                </a:solidFill>
                <a:latin typeface="Calibri"/>
              </a:rPr>
              <a:t>Здравље</a:t>
            </a:r>
            <a:br>
              <a:rPr sz="2800"/>
            </a:br>
            <a:r>
              <a:rPr b="0" lang="en-US" sz="2800" spc="-1" strike="noStrike">
                <a:solidFill>
                  <a:srgbClr val="696464"/>
                </a:solidFill>
                <a:latin typeface="Calibri"/>
              </a:rPr>
              <a:t>Детерминанте које одређују здрављ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Дуговеч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Старење популације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isabillity“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Депрес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Анксиозност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Мускулоскелетни поремећај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јам систем подразумева постојање целине коју чине елементи који међусобно интерагују како би се постигли циљеви у средини у којој систем егзистир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оквиру друштвених система, елементи система су хијерархијски уређени са динамичком структуром која је последица сталне интеракције појединачних елемената система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дравствени систем треба посматрати као један од најсложенијих систем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549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дравствени систем се може посматрати као систем здравствене заштите са пацијентом у фокусу, при чему сви „улази“ и „излази“ као и медицинске услуге у оквиру овог система јесу усмерени деловањем на здравље људи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дравствени систем обухвата све чиниоце, како директне тако и индиректне, који могу утицати на здравље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40464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куп свих организација, институција и ресурса посвећених и усмерених ка предузимању акција чија је основна сврха побољшање, очување или обнављање здравља људи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O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Ресурси: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финансијски, хумани и механичк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сновне функције здравственог система обухватају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роцесе управљања системом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ружање здравствених услуг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роцесе финансирања здравствених услуг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стварање ресурса у оквиру здравствених систем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Циљеви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нтермедијарни циљеви (доступност, обухват, квалитет и безбедност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општи циљеви здравственог система (побољшање здравственог стања заједнице, унапређивање ефикасности здравственог система, заштиту становништва од различитих друштвених ризика као и повећање нивоа одговорности према здравственим потребама заједнице)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авезни елементи структуре већине здравствених система (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O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есурс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рганизациј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доступност здравствених услуг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кономска подрш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наџмент здравственог систем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оквиру здравствених система концепт ресурса подразумева како хумане ресурсе тако и ресурсе у смислу постојања здравствених установа и здравствених технологиј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Хумане ресурсе чине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здравствени стручњаци различитих профила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ји су непосредно укључени у пружање здравствених услуга, али и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административно и техничко особље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како у домену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државног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тако и у домену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риватног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сектор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3427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Глобална стратегија СЗО из 1997. године која се односи на здравствену политику обавезује остваривање здравствене заштите на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римарно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интермедијарно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секундарном) и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централно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терцијарном) нивоу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 оквиру система здравствене заштите сва три нивоа функционишу уз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висок степен повезаност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јединствену медицинску документацију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обезбеђивање 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несметаног кретања пацијената кроз систе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а у складу са потребама и стално пружање подршке од стране виших нивоа нижим структурама систем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рганизација здравственог система треба да омогући не само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ертикалне конекције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станова сва три нивоа здравствене заштите, већ и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хоризонталне интеракције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ко у оквиру самог система тако и у односу на локалну заједницу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и организовању система здравствене заштите неопходно је обезбедити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доступнос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здравствене заштите не само у физичком, већ и у географском и економском смислу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ужање здравствене заштите мора бити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 складу са актуелним Водичима добре клиничке праксе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и научним доктринама уз стално улагање система у унапређење посебно хуманих ресурса, а у циљу постизања квалитетне здравствене заштите на највишем могућем нивоу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У центру здравственог система налази се пацијен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6T09:56:33Z</dcterms:created>
  <dc:creator>Marina Kostic</dc:creator>
  <dc:description/>
  <dc:language>en-US</dc:language>
  <cp:lastModifiedBy>Marina Kostic</cp:lastModifiedBy>
  <dcterms:modified xsi:type="dcterms:W3CDTF">2023-08-29T11:22:28Z</dcterms:modified>
  <cp:revision>11</cp:revision>
  <dc:subject/>
  <dc:title>Oрганизација здравствених система</dc:title>
</cp:coreProperties>
</file>