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7051675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DA2C-7948-472C-9D10-DB590EA62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BD91-9C63-4574-89A7-2DC7BD7CE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A81D-9339-4C01-A23C-F4598E01E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0165-B5B0-487E-AEB8-D09319926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1A28-EE9E-47BF-A5C0-25A370C0D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EFE9-EBE6-4F72-A1D9-2D70D067B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5854-37C1-4356-A743-969A90639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B69D-AB2A-4720-A7B4-D5716CF0E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181A-B35E-4B42-AF07-CCFF14C84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8BDA-E15A-4F60-A4C5-825F5BA6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5A27-8238-41B4-8E20-9F1049A53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14F0-91A2-4D4B-93A2-462020F3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F5392-BFB0-4E58-8A9B-8F7A5BEC58E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dad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Изводи из историје фармације и фармакологиј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оф. др Слободан Јанкови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eb95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Углавном се бави интернистичким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болестима, а мањим делом и болестима ока, коже,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гинеколошким и неким хируршким обољењима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(апсцеси, тумори, преломи, опекотине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Садржи опис кардиоваскуларног систем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Помиње се и дијабетес мелитус, филаријаза,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пантљичара, артритис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У психијатријском делу описује депресију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ffeea7"/>
              </a:gs>
              <a:gs pos="100000">
                <a:srgbClr val="ffffa7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767300"/>
                </a:solidFill>
                <a:latin typeface="Times New Roman"/>
              </a:rPr>
              <a:t>Еберсов папирус </a:t>
            </a:r>
            <a:br>
              <a:rPr sz="2400"/>
            </a:br>
            <a:r>
              <a:rPr b="0" lang="sr-CS" sz="2000" spc="-1" strike="noStrike">
                <a:solidFill>
                  <a:srgbClr val="767300"/>
                </a:solidFill>
                <a:latin typeface="Times New Roman"/>
              </a:rPr>
              <a:t>(Универзитетски музеј у Лајпцигу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gradFill rotWithShape="0">
            <a:gsLst>
              <a:gs pos="0">
                <a:srgbClr val="ffffb7"/>
              </a:gs>
              <a:gs pos="100000">
                <a:srgbClr val="ffefab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Кахунов гинеколошки папирус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 је настао у 19. веку п. н. е. и сматра се најстаријим египатским медицинским документом. Описује методе дијагностиковања трудноће и пола фетуса, гинеколошке болести и њихово лечењ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Херстов папирус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 потиче из доба Тутмеса трећег (16. век п. н. е.). Њега су америчкој експедицији у Египту поклонили 1901. неки сељани. На 18 страна описује болести уринарног система, крви, косе и лечење уједа (хуманог, свињског, нилског коња...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82880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ffffb3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sr-CS" sz="2400" spc="-1" strike="noStrike">
                <a:solidFill>
                  <a:srgbClr val="767300"/>
                </a:solidFill>
                <a:latin typeface="Times New Roman"/>
              </a:rPr>
              <a:t>Кахунов гинеколошки папирус </a:t>
            </a:r>
            <a:r>
              <a:rPr b="0" lang="sr-CS" sz="2000" spc="-1" strike="noStrike">
                <a:solidFill>
                  <a:srgbClr val="767300"/>
                </a:solidFill>
                <a:latin typeface="Times New Roman"/>
              </a:rPr>
              <a:t>(Универзитетски</a:t>
            </a:r>
            <a:r>
              <a:rPr b="1" lang="sr-CS" sz="2000" spc="-1" strike="noStrike">
                <a:solidFill>
                  <a:srgbClr val="7673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767300"/>
                </a:solidFill>
                <a:latin typeface="Times New Roman"/>
              </a:rPr>
              <a:t>колеџ</a:t>
            </a:r>
            <a:r>
              <a:rPr b="1" lang="sr-CS" sz="2000" spc="-1" strike="noStrike">
                <a:solidFill>
                  <a:srgbClr val="7673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767300"/>
                </a:solidFill>
                <a:latin typeface="Times New Roman"/>
              </a:rPr>
              <a:t>у Лондону)</a:t>
            </a:r>
            <a:r>
              <a:rPr b="1" lang="sr-CS" sz="2000" spc="-1" strike="noStrike">
                <a:solidFill>
                  <a:srgbClr val="767300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sr-CS" sz="2400" spc="-1" strike="noStrike">
                <a:solidFill>
                  <a:srgbClr val="767300"/>
                </a:solidFill>
                <a:latin typeface="Times New Roman"/>
              </a:rPr>
              <a:t>и Херстов папирус </a:t>
            </a:r>
            <a:r>
              <a:rPr b="0" lang="sr-CS" sz="2000" spc="-1" strike="noStrike">
                <a:solidFill>
                  <a:srgbClr val="767300"/>
                </a:solidFill>
                <a:latin typeface="Times New Roman"/>
              </a:rPr>
              <a:t>(Универзитетска</a:t>
            </a:r>
            <a:r>
              <a:rPr b="1" lang="sr-CS" sz="2000" spc="-1" strike="noStrike">
                <a:solidFill>
                  <a:srgbClr val="7673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767300"/>
                </a:solidFill>
                <a:latin typeface="Times New Roman"/>
              </a:rPr>
              <a:t>библиотека у Калифорнији)</a:t>
            </a:r>
            <a:r>
              <a:rPr b="1" lang="sr-CS" sz="2400" spc="-1" strike="noStrike">
                <a:solidFill>
                  <a:srgbClr val="767300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gradFill rotWithShape="0">
            <a:gsLst>
              <a:gs pos="0">
                <a:srgbClr val="ffbb99"/>
              </a:gs>
              <a:gs pos="100000">
                <a:srgbClr val="ffb481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Сматра се оцем традиционалне кинеске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медицине. Испитао је медицинско дејство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неколико стотина биљака; велики број је и сам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пробао. Лечио је своје поданике и саветовао како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да узгајају корисно биљ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За његово име се везује и откриће чаја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Негде у првом  веку н.е. сазнања Шен Нунга и његових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следбеника добиће писану форму – Пен тсао чинг (</a:t>
            </a:r>
            <a:r>
              <a:rPr b="0" i="1" lang="sr-CS" sz="1600" spc="-1" strike="noStrike">
                <a:solidFill>
                  <a:srgbClr val="000000"/>
                </a:solidFill>
                <a:latin typeface="Times New Roman"/>
              </a:rPr>
              <a:t>О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sr-CS" sz="1600" spc="-1" strike="noStrike">
                <a:solidFill>
                  <a:srgbClr val="000000"/>
                </a:solidFill>
                <a:latin typeface="Times New Roman"/>
              </a:rPr>
              <a:t>биљкама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), са описом 365 медицински активних супстанциј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Помињу се опијум, конопља, рабарбара, </a:t>
            </a: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ефедра вулгарис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ma huang)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gradFill rotWithShape="0">
            <a:gsLst>
              <a:gs pos="0">
                <a:srgbClr val="ffad75"/>
              </a:gs>
              <a:gs pos="100000">
                <a:srgbClr val="ffb895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20000"/>
                </a:solidFill>
                <a:latin typeface="Times New Roman"/>
              </a:rPr>
              <a:t>Кинески цар Шен Нунг </a:t>
            </a:r>
            <a:br>
              <a:rPr sz="2400"/>
            </a:br>
            <a:r>
              <a:rPr b="0" lang="sr-CS" sz="2400" spc="-1" strike="noStrike">
                <a:solidFill>
                  <a:srgbClr val="c20000"/>
                </a:solidFill>
                <a:latin typeface="Times New Roman"/>
              </a:rPr>
              <a:t>(2700 година п. н. е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gradFill rotWithShape="0">
            <a:gsLst>
              <a:gs pos="0">
                <a:srgbClr val="ffb38d"/>
              </a:gs>
              <a:gs pos="100000">
                <a:srgbClr val="ffa76b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Крајем 16. века, на темељима Шен Нунгових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искустава, обогаћена запажањима бројних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следбеника, настала је Велика кинеска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фармакопеј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У 52 књиге описује 1094 биљке и њихова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медицинска дејств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ffac73"/>
              </a:gs>
              <a:gs pos="100000">
                <a:srgbClr val="ffb38d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sr-Latn-CS" sz="2400" spc="-1" strike="noStrike">
                <a:solidFill>
                  <a:srgbClr val="c20000"/>
                </a:solidFill>
                <a:latin typeface="Times New Roman"/>
              </a:rPr>
              <a:t>Pen ts</a:t>
            </a:r>
            <a:r>
              <a:rPr b="1" lang="sr-Latn-CS" sz="2400" spc="-1" strike="noStrike">
                <a:solidFill>
                  <a:srgbClr val="c20000"/>
                </a:solidFill>
                <a:latin typeface="Times New Roman"/>
                <a:ea typeface="Times New Roman"/>
              </a:rPr>
              <a:t>’</a:t>
            </a:r>
            <a:r>
              <a:rPr b="1" lang="sr-Latn-CS" sz="2400" spc="-1" strike="noStrike">
                <a:solidFill>
                  <a:srgbClr val="c20000"/>
                </a:solidFill>
                <a:latin typeface="Times New Roman"/>
              </a:rPr>
              <a:t>ao kang-mu </a:t>
            </a:r>
            <a:r>
              <a:rPr b="1" lang="sr-CS" sz="2400" spc="-1" strike="noStrike">
                <a:solidFill>
                  <a:srgbClr val="c20000"/>
                </a:solidFill>
                <a:latin typeface="Times New Roman"/>
              </a:rPr>
              <a:t>(Велика фармакопеја)</a:t>
            </a:r>
            <a:br>
              <a:rPr sz="2400"/>
            </a:br>
            <a:r>
              <a:rPr b="0" lang="sr-CS" sz="2400" spc="-1" strike="noStrike">
                <a:solidFill>
                  <a:srgbClr val="c20000"/>
                </a:solidFill>
                <a:latin typeface="Times New Roman"/>
              </a:rPr>
              <a:t>(16. век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ffd25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Ayurveda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таре Индиј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b7db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Медицина старе Индије позната је под називом </a:t>
            </a: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Ayurveda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на санскриту: 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ayur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 живот и 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veda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знање, наука). Претеча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су јој 4 индијске свете књиге, у којима се, поред осталог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описује и примена 67 биљака у медицинске сврхе (међу њим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су и ђумбир, цимет и сена)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Прва 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Ayurveda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 медицинска енциклопедија, написана око 700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год. п. н. е., обухвата и око 500 медицински активних биљак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Rauvolfia serpentina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, извор алкалоида резерпин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(антихипертензив), прво је нашла примену у старој Индиј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14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ffb3b3"/>
              </a:gs>
              <a:gs pos="100000">
                <a:srgbClr val="ff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ДРЕВНЕ ЦИВИЛИЗАЦИЈЕ</a:t>
            </a:r>
            <a:br>
              <a:rPr sz="2800"/>
            </a:br>
            <a:br>
              <a:rPr sz="2800"/>
            </a:br>
            <a:r>
              <a:rPr b="1" lang="sr-CS" sz="2800" spc="-1" strike="noStrike">
                <a:solidFill>
                  <a:srgbClr val="9e2877"/>
                </a:solidFill>
                <a:latin typeface="Times New Roman"/>
              </a:rPr>
              <a:t>СТАРА ИНДИЈ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ff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Стари Грци су веровали да је болест божија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казна и за излечење се молили Аполону, богу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медицине (здравља). Мит каже да је полу-бог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Ескулап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, Аполонов син, од оца на рођењу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добио моћ да лечи; кад је одрастао, постао ј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тако вешт у хирургији и траварству да ј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успевао мртве да васкрсне. Помагале су му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кћери 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Хигија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 (заступала је здрав начин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живота) и Панацеа (“ лечи све” – лечећи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болести). Зевс се уплашио да ће људски род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учинити бесмртним и убио га громом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Међутим, Хомер помиње Ескулапа као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изврсног лекара - хероја који је на бојном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пољу показивао завидну умешност у лечењу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повређених. Касније је створен култ и у част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Ескулапу су подигнути бројни храмови, који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су служили и за молитву и као лечилишт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gradFill rotWithShape="0">
            <a:gsLst>
              <a:gs pos="0">
                <a:srgbClr val="d1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sr-CS" sz="2400" spc="-1" strike="noStrike">
                <a:solidFill>
                  <a:srgbClr val="0054a8"/>
                </a:solidFill>
                <a:latin typeface="Times New Roman"/>
              </a:rPr>
              <a:t>Стара Грч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dff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Ескулап је често приказиван са грубо истесаним чемпресовим штапом у руци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око кога се увила змија. Штап представља снагу и постојаност вере лекара у бога или етику, док змија истовремено симболизује Ескулапову дубоку религиозност и мудрост засновану на великом знању и опрезним поступцима у лечењу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gradFill rotWithShape="0">
            <a:gsLst>
              <a:gs pos="0">
                <a:srgbClr val="d9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sr-CS" sz="2400" spc="-1" strike="noStrike">
                <a:solidFill>
                  <a:srgbClr val="0054a8"/>
                </a:solidFill>
                <a:latin typeface="Times New Roman"/>
              </a:rPr>
              <a:t>Стара Грч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3ff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Старогрчки лекар Хипократ, отац модерне медицине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за разлику од својих претходника верује да болест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имају своје природне узроке и да су последица дисбаланса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четири телесне течности (жуте жучи, црне жучи, крви и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флегме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Заједно са својим следбеницима користио је око 35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биљака у медицинске сврхе (у “Хипократовим списима”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помињу се нана, рузмарин, тимијан, анис, каранфилић,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чичак, цимет..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cd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sr-CS" sz="2400" spc="-1" strike="noStrike">
                <a:solidFill>
                  <a:srgbClr val="0054a8"/>
                </a:solidFill>
                <a:latin typeface="Times New Roman"/>
              </a:rPr>
              <a:t>Хипократ (460-377. год. пре н.е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10"/>
          <p:cNvGrpSpPr/>
          <p:nvPr/>
        </p:nvGrpSpPr>
        <p:grpSpPr>
          <a:xfrm>
            <a:off x="2286000" y="1749600"/>
            <a:ext cx="5303880" cy="360"/>
            <a:chOff x="2286000" y="1749600"/>
            <a:chExt cx="5303880" cy="360"/>
          </a:xfrm>
        </p:grpSpPr>
        <p:grpSp>
          <p:nvGrpSpPr>
            <p:cNvPr id="91" name="Group 8"/>
            <p:cNvGrpSpPr/>
            <p:nvPr/>
          </p:nvGrpSpPr>
          <p:grpSpPr>
            <a:xfrm>
              <a:off x="2286000" y="1749600"/>
              <a:ext cx="5303880" cy="360"/>
              <a:chOff x="2286000" y="1749600"/>
              <a:chExt cx="5303880" cy="360"/>
            </a:xfrm>
          </p:grpSpPr>
          <p:sp>
            <p:nvSpPr>
              <p:cNvPr id="92" name="Rectangle 5"/>
              <p:cNvSpPr/>
              <p:nvPr/>
            </p:nvSpPr>
            <p:spPr>
              <a:xfrm>
                <a:off x="2286000" y="1749600"/>
                <a:ext cx="53038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Rectangle 7"/>
              <p:cNvSpPr/>
              <p:nvPr/>
            </p:nvSpPr>
            <p:spPr>
              <a:xfrm>
                <a:off x="2286000" y="1749600"/>
                <a:ext cx="53038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Rectangle 9"/>
            <p:cNvSpPr/>
            <p:nvPr/>
          </p:nvSpPr>
          <p:spPr>
            <a:xfrm>
              <a:off x="2286000" y="1749600"/>
              <a:ext cx="5303880" cy="360"/>
            </a:xfrm>
            <a:prstGeom prst="rect">
              <a:avLst/>
            </a:prstGeom>
            <a:noFill/>
            <a:ln w="0">
              <a:solidFill>
                <a:srgbClr val="9999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d9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54a8"/>
                </a:solidFill>
                <a:latin typeface="Times New Roman"/>
              </a:rPr>
              <a:t>Стара Грч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3ff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Terra sigillata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печатна земља – вероватно први “регистровани” лек  (500 год. пре н.е.), глинене таблете пореклом са грчког острва  Лемноса. Одређеног дана сваке године, од опране, пречишћене глине су обликоване таблете и предаване свештеницима да утисну свој печат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Затим су сушене на сунцу и продаване. Веровало се да помажу код тровања, па чак и змијског ујед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c9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54a8"/>
                </a:solidFill>
                <a:latin typeface="Times New Roman"/>
              </a:rPr>
              <a:t>Theophrastus (372 – 287.</a:t>
            </a:r>
            <a:r>
              <a:rPr b="1" lang="sr-CS" sz="2400" spc="-1" strike="noStrike">
                <a:solidFill>
                  <a:srgbClr val="0054a8"/>
                </a:solidFill>
                <a:latin typeface="Times New Roman"/>
              </a:rPr>
              <a:t> год. пре н.е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dffff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Теофрастус, грчки филозоф, Аристотелов ђак,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сматра се оцем ботанике. У свом делу “Историја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биљака” у 9 поглавља описује око 500 биљака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уз класификацију, распрострањеност, раст и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узгајање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Девето поглавље је посвећено употреби биљак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у медицини. Око 40 наведених биљака се још и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данас користи у медицинске сврх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Диоклесов Ризотомикон,  два века старији о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Материје медике, нажалост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 није сачуван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27279b"/>
                </a:solidFill>
                <a:latin typeface="Times New Roman"/>
              </a:rPr>
              <a:t>ПРАИСТОРИЈ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У праисторији је људима руководио инстинкт;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учили су и посматрајући животињ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Са стицањем искустава о токсичном дејству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неких биљака на животиње и људе развила се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емпиријска токсикологија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Емпиријска терапија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 је настала са применом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првих “лекова”: хладне воде, лишћа неких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биљака, блата, муља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Group 10"/>
          <p:cNvGrpSpPr/>
          <p:nvPr/>
        </p:nvGrpSpPr>
        <p:grpSpPr>
          <a:xfrm>
            <a:off x="2286000" y="1874880"/>
            <a:ext cx="5303880" cy="360"/>
            <a:chOff x="2286000" y="1874880"/>
            <a:chExt cx="5303880" cy="360"/>
          </a:xfrm>
        </p:grpSpPr>
        <p:grpSp>
          <p:nvGrpSpPr>
            <p:cNvPr id="46" name="Group 8"/>
            <p:cNvGrpSpPr/>
            <p:nvPr/>
          </p:nvGrpSpPr>
          <p:grpSpPr>
            <a:xfrm>
              <a:off x="2286000" y="1874880"/>
              <a:ext cx="5303880" cy="360"/>
              <a:chOff x="2286000" y="1874880"/>
              <a:chExt cx="5303880" cy="360"/>
            </a:xfrm>
          </p:grpSpPr>
          <p:sp>
            <p:nvSpPr>
              <p:cNvPr id="47" name="Rectangle 5"/>
              <p:cNvSpPr/>
              <p:nvPr/>
            </p:nvSpPr>
            <p:spPr>
              <a:xfrm>
                <a:off x="2286000" y="1874880"/>
                <a:ext cx="53038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Rectangle 7"/>
              <p:cNvSpPr/>
              <p:nvPr/>
            </p:nvSpPr>
            <p:spPr>
              <a:xfrm>
                <a:off x="2286000" y="1874880"/>
                <a:ext cx="53038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Rectangle 9"/>
            <p:cNvSpPr/>
            <p:nvPr/>
          </p:nvSpPr>
          <p:spPr>
            <a:xfrm>
              <a:off x="2286000" y="1874880"/>
              <a:ext cx="5303880" cy="360"/>
            </a:xfrm>
            <a:prstGeom prst="rect">
              <a:avLst/>
            </a:prstGeom>
            <a:noFill/>
            <a:ln w="0">
              <a:solidFill>
                <a:srgbClr val="9999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5ff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Диоскоридес Педаниус, рођен у Аназарбосу,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близу Тарзуса (сада Турска), грчки лекар,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фармаколог и ботаничар, живео је у доба Нерона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Путовао је са римским легијама као хирург,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сакупљао и проучавао биљке широм Грчке,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Италије, Француске и Мале Азије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Творац је претече модерне фармакопеје, дела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сачуваног у латинском преводу (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De Materia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Medica)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, које ће током 16 векова бити водећи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фармаколошки и ботанички документ у Грчкој,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Риму и арапским земљама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c9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54a8"/>
                </a:solidFill>
                <a:latin typeface="Times New Roman"/>
              </a:rPr>
              <a:t>Диоскоридес Педаниус</a:t>
            </a:r>
            <a:r>
              <a:rPr b="1" lang="sr-Latn-CS" sz="2400" spc="-1" strike="noStrike">
                <a:solidFill>
                  <a:srgbClr val="0054a8"/>
                </a:solidFill>
                <a:latin typeface="Times New Roman"/>
              </a:rPr>
              <a:t> (</a:t>
            </a:r>
            <a:r>
              <a:rPr b="1" lang="sr-CS" sz="2400" spc="-1" strike="noStrike">
                <a:solidFill>
                  <a:srgbClr val="0054a8"/>
                </a:solidFill>
                <a:latin typeface="Times New Roman"/>
              </a:rPr>
              <a:t>40 – 90. год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dff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Materiu  Medicu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је чинило 5 књига, у којима је детаљно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описано око 600 лековитих супстанција  биљног порекла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90 минералног и 30 анималног порекла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Свака биљка је представљена цртежом, описом, наведен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су њена лековита својства, начин припреме лековите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материје и упозорење о нежељеним (токсичним) дејствима.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Диоскоридес биљке дели на ароматичне, медицински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корисне и хранљив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c5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54a8"/>
                </a:solidFill>
                <a:latin typeface="Times New Roman"/>
              </a:rPr>
              <a:t>De Materia Medica (77</a:t>
            </a:r>
            <a:r>
              <a:rPr b="1" lang="sr-CS" sz="2400" spc="-1" strike="noStrike">
                <a:solidFill>
                  <a:srgbClr val="0054a8"/>
                </a:solidFill>
                <a:latin typeface="Times New Roman"/>
              </a:rPr>
              <a:t> – </a:t>
            </a:r>
            <a:r>
              <a:rPr b="1" lang="sr-Latn-CS" sz="2400" spc="-1" strike="noStrike">
                <a:solidFill>
                  <a:srgbClr val="0054a8"/>
                </a:solidFill>
                <a:latin typeface="Times New Roman"/>
              </a:rPr>
              <a:t>78</a:t>
            </a:r>
            <a:r>
              <a:rPr b="1" lang="sr-CS" sz="2400" spc="-1" strike="noStrike">
                <a:solidFill>
                  <a:srgbClr val="0054a8"/>
                </a:solidFill>
                <a:latin typeface="Times New Roman"/>
              </a:rPr>
              <a:t>. год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1ff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Прва књига садржи 517 рецепата од лековитих материја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биљног порекла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Друга 142 материје животињског порекла (укључујућ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мед, млеко, масти..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У трећој књизи су описане ароматичне материје биљног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порекл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У четвртој се разматрају материје пореклом од дрвећа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(описано 69 врста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Пета књига “Вина, минерали и сличне материје” описује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винову лозу и вина, воду, минералне и разне неорганске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материје. Садржи 200 леков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1600200"/>
          </a:xfrm>
          <a:prstGeom prst="rect">
            <a:avLst/>
          </a:prstGeom>
          <a:gradFill rotWithShape="0">
            <a:gsLst>
              <a:gs pos="0">
                <a:srgbClr val="d1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sr-Latn-CS" sz="2400" spc="-1" strike="noStrike">
                <a:solidFill>
                  <a:srgbClr val="0054a8"/>
                </a:solidFill>
                <a:latin typeface="Times New Roman"/>
              </a:rPr>
              <a:t>De Materia Medica (77</a:t>
            </a:r>
            <a:r>
              <a:rPr b="1" lang="sr-CS" sz="2400" spc="-1" strike="noStrike">
                <a:solidFill>
                  <a:srgbClr val="0054a8"/>
                </a:solidFill>
                <a:latin typeface="Times New Roman"/>
              </a:rPr>
              <a:t> – </a:t>
            </a:r>
            <a:r>
              <a:rPr b="1" lang="sr-Latn-CS" sz="2400" spc="-1" strike="noStrike">
                <a:solidFill>
                  <a:srgbClr val="0054a8"/>
                </a:solidFill>
                <a:latin typeface="Times New Roman"/>
              </a:rPr>
              <a:t>78</a:t>
            </a:r>
            <a:r>
              <a:rPr b="1" lang="sr-CS" sz="2400" spc="-1" strike="noStrike">
                <a:solidFill>
                  <a:srgbClr val="0054a8"/>
                </a:solidFill>
                <a:latin typeface="Times New Roman"/>
              </a:rPr>
              <a:t>. год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dff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Многе од описаних биљака се и данас користе у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медицинске сврхе (нпр. кора жалосне врбе –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претеча аспирина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Друге више нису у употреби. Пример је биљка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silphium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, из фамилије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Ferula,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 налик на огромну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мирођију. Жене старе Грчке и Рима су је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користиле као ефикасан контрацептив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d1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54a8"/>
                </a:solidFill>
                <a:latin typeface="Times New Roman"/>
              </a:rPr>
              <a:t>De Materia Medica (77</a:t>
            </a:r>
            <a:r>
              <a:rPr b="1" lang="sr-CS" sz="2400" spc="-1" strike="noStrike">
                <a:solidFill>
                  <a:srgbClr val="0054a8"/>
                </a:solidFill>
                <a:latin typeface="Times New Roman"/>
              </a:rPr>
              <a:t> – </a:t>
            </a:r>
            <a:r>
              <a:rPr b="1" lang="sr-Latn-CS" sz="2400" spc="-1" strike="noStrike">
                <a:solidFill>
                  <a:srgbClr val="0054a8"/>
                </a:solidFill>
                <a:latin typeface="Times New Roman"/>
              </a:rPr>
              <a:t>78</a:t>
            </a:r>
            <a:r>
              <a:rPr b="1" lang="sr-CS" sz="2400" spc="-1" strike="noStrike">
                <a:solidFill>
                  <a:srgbClr val="0054a8"/>
                </a:solidFill>
                <a:latin typeface="Times New Roman"/>
              </a:rPr>
              <a:t>. год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09480" y="3505320"/>
            <a:ext cx="3810240" cy="41148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905120"/>
            <a:ext cx="9144000" cy="4952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ff9ae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За Митридата 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VI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 (132 – 63. г. п. н. е.), краља Понта и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љутог непријатеља Римског царства, везују се два мит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Први говори да је имао изванредну меморију, говорио 25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језика и знао име сваког војника у својим армијам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Други, да је био прави “уметник” у тровању, али и вешт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у превенцији и лечењу тровања. У сталном страху да ће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400" spc="-1" strike="noStrike">
                <a:solidFill>
                  <a:srgbClr val="999999"/>
                </a:solidFill>
                <a:latin typeface="Verdana"/>
                <a:ea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бити отрован, штитио се узимајући растуће сублеталне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дозе познатих отрова, све док није био у стању да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поднесе леталне дозе (поступак познат као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митридатизам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). Међутим, када је, најзад, поражен,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покушао је самоубиство тровањем; отров није деловао,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па се бацио на свој мач. Универзални антидот код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тровања, коришћен више од 1000 година, по њему је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носио назив 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митридат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a3e1a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ДРЕВНЕ ЦИВИЛИЗАЦИЈЕ</a:t>
            </a:r>
            <a:br>
              <a:rPr sz="2800"/>
            </a:br>
            <a:br>
              <a:rPr sz="2800"/>
            </a:br>
            <a:r>
              <a:rPr b="1" lang="sr-CS" sz="2800" spc="-1" strike="noStrike">
                <a:solidFill>
                  <a:srgbClr val="00944a"/>
                </a:solidFill>
                <a:latin typeface="Times New Roman"/>
              </a:rPr>
              <a:t>ПОН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Group 2062"/>
          <p:cNvGrpSpPr/>
          <p:nvPr/>
        </p:nvGrpSpPr>
        <p:grpSpPr>
          <a:xfrm>
            <a:off x="2286000" y="1714680"/>
            <a:ext cx="5303880" cy="360"/>
            <a:chOff x="2286000" y="1714680"/>
            <a:chExt cx="5303880" cy="360"/>
          </a:xfrm>
        </p:grpSpPr>
        <p:grpSp>
          <p:nvGrpSpPr>
            <p:cNvPr id="111" name="Group 2060"/>
            <p:cNvGrpSpPr/>
            <p:nvPr/>
          </p:nvGrpSpPr>
          <p:grpSpPr>
            <a:xfrm>
              <a:off x="2286000" y="1714680"/>
              <a:ext cx="5303880" cy="360"/>
              <a:chOff x="2286000" y="1714680"/>
              <a:chExt cx="5303880" cy="360"/>
            </a:xfrm>
          </p:grpSpPr>
          <p:sp>
            <p:nvSpPr>
              <p:cNvPr id="112" name="Rectangle 2057"/>
              <p:cNvSpPr/>
              <p:nvPr/>
            </p:nvSpPr>
            <p:spPr>
              <a:xfrm>
                <a:off x="2286000" y="1714680"/>
                <a:ext cx="53038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Rectangle 2059"/>
              <p:cNvSpPr/>
              <p:nvPr/>
            </p:nvSpPr>
            <p:spPr>
              <a:xfrm>
                <a:off x="2286000" y="1714680"/>
                <a:ext cx="53038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" name="Rectangle 2061"/>
            <p:cNvSpPr/>
            <p:nvPr/>
          </p:nvSpPr>
          <p:spPr>
            <a:xfrm>
              <a:off x="2286000" y="1714680"/>
              <a:ext cx="5303880" cy="360"/>
            </a:xfrm>
            <a:prstGeom prst="rect">
              <a:avLst/>
            </a:prstGeom>
            <a:noFill/>
            <a:ln w="0">
              <a:solidFill>
                <a:srgbClr val="9999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3e1a3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Чувени грчки лекар и научник, студије медицине започео у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17. години, стичући знања и вештине широм Грчке, Мале Азиј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и Палестине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Славу стиче лечећи повређене гладијаторе и постаје лични лекар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римског цара Марка Аурелија и његовог син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У медицину уводи појам експеримента. Први експериментални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физиолог, проучавао је мишиће, кичмену мождину, срце и уринарни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систем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Изводио је вивисекције и дисекције на мајмунима, свињама и псим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Дао је допринос развоју анатомије (установио да се у артеријама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налази крв, а не ваздух, како се до тада мислило). Веровао је да се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срце састоји од две комор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afe5a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944a"/>
                </a:solidFill>
                <a:latin typeface="Times New Roman"/>
              </a:rPr>
              <a:t>Клаудијус Гален, Гален од Пергамума (131-201. год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de9bd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Указао је на значај познавања пулса у дијагностици болест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Осим тога, имао је и сопствену апотеку у којој је справљао лековите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препарате за бројне болести, мешајући биљне и животињске састојке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(још је у употреби назив 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галенски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препарат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). Написао је више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књига о биљној медицини.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Сматрао је да болести треба лечити 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биљкама које имају супротна дејства од симптома болести (</a:t>
            </a: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contraria 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contrariis curantur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 Његов хладни крем је остао прототип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свих данашњих кремова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Творац је 500 књига из области филозофије, филологије и медицине.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83 медицинске књиге су сачуване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Галенов рад је обележио медицину Европе и Средње Азије наредних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15 векова. Док су његове теорије прерасле у догму, идеја о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опсервацији и експерименталном раду била је занемаривана све до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појаве Везалијуса (16. век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1752480"/>
          </a:xfrm>
          <a:prstGeom prst="rect">
            <a:avLst/>
          </a:prstGeom>
          <a:gradFill rotWithShape="0">
            <a:gsLst>
              <a:gs pos="0">
                <a:srgbClr val="bae8b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944a"/>
                </a:solidFill>
                <a:latin typeface="Times New Roman"/>
              </a:rPr>
              <a:t>Клаудијус Гален, Гален од Пергамума (131-201. год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Од 5. до 12. века медицинска знања Запада су чувана у манастирима. Медицинске књиге су превођене, преписиване и чуване у манастирским библиотекама. Од лековитих трава које су сакупљали по околини или гајили у манастирским вртовима, монаси су справљали лекове за болесне и повређен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981080"/>
          </a:xfrm>
          <a:prstGeom prst="rect">
            <a:avLst/>
          </a:prstGeom>
          <a:gradFill rotWithShape="0">
            <a:gsLst>
              <a:gs pos="0">
                <a:srgbClr val="bebebe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СРЕДЊИ  ВЕК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1e1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Ирански лекар, рођен у Бухари, најпознатији и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најутицајнији филозоф и научник исламског свет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Изузетно надарен, већ са 10 година знао је Куран и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већину арапске поезије напамет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Студије медицине започиње у 13. години, а лекарску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праксу у 16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Осим медицине изучава логику, исламске законе,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метафизику. Врло брзо превазилази своје учитељ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Успешно лечи принца династије Саманид и врата богате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Краљевске библиотеке се пред њим отварају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efe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Ibn Sina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(Авицена) (980 – 1037. год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0" y="0"/>
            <a:ext cx="9144000" cy="1981080"/>
          </a:xfrm>
          <a:prstGeom prst="rect">
            <a:avLst/>
          </a:prstGeom>
          <a:gradFill rotWithShape="0">
            <a:gsLst>
              <a:gs pos="0">
                <a:srgbClr val="d9d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МУСЛИМАНСКИ  СВЕ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7400e8"/>
                </a:solidFill>
                <a:latin typeface="Times New Roman"/>
              </a:rPr>
              <a:t>Ibn Sina </a:t>
            </a:r>
            <a:r>
              <a:rPr b="1" lang="sr-CS" sz="2400" spc="-1" strike="noStrike">
                <a:solidFill>
                  <a:srgbClr val="7400e8"/>
                </a:solidFill>
                <a:latin typeface="Times New Roman"/>
              </a:rPr>
              <a:t>(Авицена) (980 – 1037. год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5e5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Смрт оца и пад династије Саманид значе прекретницу у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Авиценином животу. Почиње доба несигурности и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лутања, које ће, осим краћих мирних периода, трајати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све до његове смрт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У потрази за миром и материјалном подршком, ради као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дворски лекар и администратор  у Хамадану. Ноћи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проводи у филозофским и научним дискусијама са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својим студентима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Тада започиње своја два велика дела. </a:t>
            </a: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Kitab ash-shifa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(Књига о лечењу) је најобимније дело написано од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стране једног писца у историји човечанства. Филозофска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и научна енциклопедија, садржи знања из логике,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психологије, геометрије, астрономије, аритметике,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музике, метафизике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dddd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sr-Latn-CS" sz="2400" spc="-1" strike="noStrike">
                <a:solidFill>
                  <a:srgbClr val="7400e8"/>
                </a:solidFill>
                <a:latin typeface="Times New Roman"/>
              </a:rPr>
              <a:t>Ibn Sina </a:t>
            </a:r>
            <a:r>
              <a:rPr b="1" lang="sr-CS" sz="2400" spc="-1" strike="noStrike">
                <a:solidFill>
                  <a:srgbClr val="7400e8"/>
                </a:solidFill>
                <a:latin typeface="Times New Roman"/>
              </a:rPr>
              <a:t>(Авицена) (980 – 1037. год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ДРЕВНЕ ЦИВИЛИЗАЦИЈЕ</a:t>
            </a:r>
            <a:br>
              <a:rPr sz="2800"/>
            </a:br>
            <a:br>
              <a:rPr sz="2800"/>
            </a:b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7e2a00"/>
                </a:solidFill>
                <a:latin typeface="Times New Roman"/>
              </a:rPr>
              <a:t>МЕСОПОТАМИЈ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9966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748656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748656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748656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748656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748656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748656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748656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Најстарији медицински записи (око 2500 година п. н. е.) потичу из Месопотамије. Писани су клинастим писмом на глиненим таблицама.Осим описа болести, рецепата и упутстава за справљање лековитих препарата, садрже  ритуале и молитве боговима. У то време лекар је морао бити свештеник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0"/>
          <p:cNvGrpSpPr/>
          <p:nvPr/>
        </p:nvGrpSpPr>
        <p:grpSpPr>
          <a:xfrm>
            <a:off x="2286000" y="1731960"/>
            <a:ext cx="5303880" cy="360"/>
            <a:chOff x="2286000" y="1731960"/>
            <a:chExt cx="5303880" cy="360"/>
          </a:xfrm>
        </p:grpSpPr>
        <p:grpSp>
          <p:nvGrpSpPr>
            <p:cNvPr id="53" name="Group 8"/>
            <p:cNvGrpSpPr/>
            <p:nvPr/>
          </p:nvGrpSpPr>
          <p:grpSpPr>
            <a:xfrm>
              <a:off x="2286000" y="1731960"/>
              <a:ext cx="5303880" cy="360"/>
              <a:chOff x="2286000" y="1731960"/>
              <a:chExt cx="5303880" cy="360"/>
            </a:xfrm>
          </p:grpSpPr>
          <p:sp>
            <p:nvSpPr>
              <p:cNvPr id="54" name="Rectangle 5"/>
              <p:cNvSpPr/>
              <p:nvPr/>
            </p:nvSpPr>
            <p:spPr>
              <a:xfrm>
                <a:off x="2286000" y="1731960"/>
                <a:ext cx="53038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2286000" y="1731960"/>
                <a:ext cx="53038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Rectangle 9"/>
            <p:cNvSpPr/>
            <p:nvPr/>
          </p:nvSpPr>
          <p:spPr>
            <a:xfrm>
              <a:off x="2286000" y="1731960"/>
              <a:ext cx="5303880" cy="360"/>
            </a:xfrm>
            <a:prstGeom prst="rect">
              <a:avLst/>
            </a:prstGeom>
            <a:noFill/>
            <a:ln w="0">
              <a:solidFill>
                <a:srgbClr val="9999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Al Quanon fi Tibb (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Медицински канон)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, најпознатија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књига у историји медицине, медицинска енциклопедија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у пет књига, сакупљено знање из целог света (Старе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Грчке и Римског царства, арапских земаља, старе Индије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и Кине); мањи део чине и Авиценина властита искуства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(током неизбежних путовања белешке су му се губиле...)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У Медицинском канону описује преко 800 биљних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супстанција и њихова дејств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Последње године живота провешће на трећем двору, у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Есфахану, где је и завршио своја два огромна рад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Пратећи владара у ратном походу, заразио се и умро од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неке цревне инфекциј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У 12. веку и Књига лечења и Медицински канон су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преведени на латински. Медицински канон биће водећа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медицинска књига не само исламског света већ и  на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Западу током више векова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gradFill rotWithShape="0">
            <a:gsLst>
              <a:gs pos="0">
                <a:srgbClr val="dddd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sr-Latn-CS" sz="2400" spc="-1" strike="noStrike">
                <a:solidFill>
                  <a:srgbClr val="7400e8"/>
                </a:solidFill>
                <a:latin typeface="Times New Roman"/>
              </a:rPr>
              <a:t>Ibn Sina </a:t>
            </a:r>
            <a:r>
              <a:rPr b="1" lang="sr-CS" sz="2400" spc="-1" strike="noStrike">
                <a:solidFill>
                  <a:srgbClr val="7400e8"/>
                </a:solidFill>
                <a:latin typeface="Times New Roman"/>
              </a:rPr>
              <a:t>(Авицена) (980 – 1037. год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ce0f5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Почетак ренесансе у раном 15. веку донео је процват науке у целини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У Европи су осниване установе за медицинско образовање, а од студента се тражило да познају лековито биљ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Идеја  о званичној фармакопеји потекла је из Фиренце. 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Nuovo Receptario Composito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написана на италијанском,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публикована је 1498. Написао ју је лекарско-апотекарски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цех, под руководством тадашњег политичког лидера у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Фиренци – доминиканског свештеника Савонарол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Базирана је на грчко-арапским знањима о лековима.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Издата је са наменом да обезбеди униформност у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апотекарској пракси и да буде приступачна џепна књига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за свакодневну употребу. 1518. је преведена на латински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и постала доступна целом Западу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У првом делу су наведене разне лековите супстанце и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упутства за припрему лекова. Затим следи део са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исцрпним објашњењима о изради пилула, сирупа и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других облика лекова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gradFill rotWithShape="0">
            <a:gsLst>
              <a:gs pos="0">
                <a:srgbClr val="eed4e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РЕНЕСАНС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acef7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Швајцарски лекар, хемичар и реформатор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Почетна знања добија од оца (лекара); путујући по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Европи, Египту и Средњој Азији сакупља народне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лекове. Посећује  бројне медицинске факултете..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Ради и као војни хирург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Као професор медицине кратко је радио у Базелу. Тада је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и јавно спалио у то време најауторитативнији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медицински уџбеник – Авиценин Медицински канон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И псеудоним 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Paracelsus (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изнад 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Celsusa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, познатог лекара у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Римском царству) узима како би изразио свој презир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према тадашњим  лекарима и научницим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Одбацио је застарело веровање о значају 4 телесне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течности и сматрао да су болести узроковане спољним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чиниоцима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d8f3d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Tophrastus Bombastus von Hohenheim – Paracelsus (1493-154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5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eed4e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РЕНЕСАНС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ff79ff"/>
                </a:solidFill>
                <a:latin typeface="Times New Roman"/>
              </a:rPr>
              <a:t>T</a:t>
            </a:r>
            <a:r>
              <a:rPr b="1" lang="sr-CS" sz="2400" spc="-1" strike="noStrike">
                <a:solidFill>
                  <a:srgbClr val="ff79ff"/>
                </a:solidFill>
                <a:latin typeface="Times New Roman"/>
              </a:rPr>
              <a:t>е</a:t>
            </a:r>
            <a:r>
              <a:rPr b="1" lang="sr-Latn-CS" sz="2400" spc="-1" strike="noStrike">
                <a:solidFill>
                  <a:srgbClr val="ff79ff"/>
                </a:solidFill>
                <a:latin typeface="Times New Roman"/>
              </a:rPr>
              <a:t>ophrastus Bombastus von Hohenheim – Paracelsus (1493-154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edef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Нагласио  је улогу хемије у медицини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Припремао је и користио нове лекове неорганског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порекла, укључујући једињења живе, сумпора,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гвожђа, бакра... У до тада најбољем клиничком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опису сифилиса истакао је да се исти може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лечити пажљиво дозираним једињењима живе.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Заступао је пажљиву опсервацију и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експериментални рад у медицини, створивши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основе за модерну фармакологију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Проучавао је природни процес оздрављења и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истицао да се ране морају дренират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Схватио је да се болести могу превенирати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уносом у организам малих доза изазивач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fcdcf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sr-Latn-CS" sz="2400" spc="-1" strike="noStrike">
                <a:solidFill>
                  <a:srgbClr val="ff79ff"/>
                </a:solidFill>
                <a:latin typeface="Times New Roman"/>
              </a:rPr>
              <a:t>T</a:t>
            </a:r>
            <a:r>
              <a:rPr b="1" lang="sr-CS" sz="2400" spc="-1" strike="noStrike">
                <a:solidFill>
                  <a:srgbClr val="ff79ff"/>
                </a:solidFill>
                <a:latin typeface="Times New Roman"/>
              </a:rPr>
              <a:t>е</a:t>
            </a:r>
            <a:r>
              <a:rPr b="1" lang="sr-Latn-CS" sz="2400" spc="-1" strike="noStrike">
                <a:solidFill>
                  <a:srgbClr val="ff79ff"/>
                </a:solidFill>
                <a:latin typeface="Times New Roman"/>
              </a:rPr>
              <a:t>ophrastus Bombastus von Hohenheim – Paracelsus (1493-154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edef0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Алопатија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allos –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 различит,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 pathia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 – патња) и 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хомеопатија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 (хомео – сличан) су два различита система лечења у 18. и 19. веку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Алопатијом су се у то време називали конвенционални медицински приступи, симптоматско лечење, које је укључивало и пуштање крви, примену токсичних материја (арсен, жива...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Хомеопатија је рођена 1796., кад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 је и публикован рад немачког лекара 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Samuela Hahnemanna “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Есеј 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 новим принципима”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За разлику од алопатије, хомеопатија се заснива на тврдњи: “</a:t>
            </a: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Similia similibus curantur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”,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тј. болести треба лечити оним лековима који код здравих особа изазивају симптоме сличне симптомима саме болести. На ту идеју је 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Hahnemann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 дошао када је на себи испробао дејство кинина и утврдио да су ефекти слични симптомима код маларије. С друге стране, сваки симптом изазван токсичном дозом неке супстанције код здравих особа се може отклонити леком припремљеним од ње саме (тзв. потенцијацијом, тј. сукцесивним разблаживањем). За пример су узимани 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NaCl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и змијски отров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Друга два темеља хомеопатије су: Теорија бескрајно малих доза (што се суспстанција више разблажује то је потентнија)  и Теорија “псора” (према Ханеману 80% хроничних болести је последица потиснутог незадовољства)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gradFill rotWithShape="0">
            <a:gsLst>
              <a:gs pos="0">
                <a:srgbClr val="fedae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sr-CS" sz="2400" spc="-1" strike="noStrike">
                <a:solidFill>
                  <a:srgbClr val="ca00ca"/>
                </a:solidFill>
                <a:latin typeface="Times New Roman"/>
              </a:rPr>
              <a:t>Алопатија и хомеопатија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(18. и 19. век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9051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Теријак, најзначајнији лек и антидот током 17 веко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Према легенди, теријак је први справио Митридат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VI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, краљ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Понта. Рецепт је стигао у Рим, где га је Андромах, Неронов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лични лекар, усавршио. По том рецепту справљаће се током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17 векова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Теријак је био лепљива смеса више од 60 састојака; неки од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њих били су веома скупи. Између осталих, садржао је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опијум и месо змија отровница. Имао је широку примену,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мада је првенствено био намењен за лечење уједа отровних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животиња и куге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Пре справљања, лекари су морали да провере све састојк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edee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У свом делу “Органон” детаљно излаже концепт и праксу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хомеопатског приступа. Признање стиче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успешним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лечењем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преживелих после Наполеоновог напада на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Лајпциг и оболелих у епидемији тифуса која је затим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наступила.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1821.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издаје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Materiu Medicu Puru,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каталог лекова који су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прошли прецизирано хомеопатско испитивање. За сваки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лек су детаљно описани симтоми које је изазвао на здравим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добровољцима (20 добровољаца је лек узимало 6 недеља и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сваки је водио дневник записујући све промене, укључујући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и емоционалне), уз препоруку да се лек узима у растућим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разблажењима. Сматрао је да и у тако великим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разблажењима, где се практично губи лековита супстанција,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лек делује као енергетска сила која помаже организму да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поново успостави равнотежно стањ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gradFill rotWithShape="0">
            <a:gsLst>
              <a:gs pos="0">
                <a:srgbClr val="fedee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sr-Latn-CS" sz="2400" spc="-1" strike="noStrike">
                <a:solidFill>
                  <a:srgbClr val="ca00ca"/>
                </a:solidFill>
                <a:latin typeface="Times New Roman"/>
              </a:rPr>
              <a:t>Samuel Hahneman</a:t>
            </a:r>
            <a:r>
              <a:rPr b="1" lang="sr-CS" sz="2400" spc="-1" strike="noStrike">
                <a:solidFill>
                  <a:srgbClr val="ca00ca"/>
                </a:solidFill>
                <a:latin typeface="Times New Roman"/>
              </a:rPr>
              <a:t> (1</a:t>
            </a:r>
            <a:r>
              <a:rPr b="1" lang="sr-Latn-CS" sz="2400" spc="-1" strike="noStrike">
                <a:solidFill>
                  <a:srgbClr val="ca00ca"/>
                </a:solidFill>
                <a:latin typeface="Times New Roman"/>
              </a:rPr>
              <a:t>755</a:t>
            </a:r>
            <a:r>
              <a:rPr b="1" lang="sr-CS" sz="2400" spc="-1" strike="noStrike">
                <a:solidFill>
                  <a:srgbClr val="ca00ca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ca00ca"/>
                </a:solidFill>
                <a:latin typeface="Times New Roman"/>
              </a:rPr>
              <a:t>– 1843</a:t>
            </a:r>
            <a:r>
              <a:rPr b="1" lang="sr-CS" sz="2400" spc="-1" strike="noStrike">
                <a:solidFill>
                  <a:srgbClr val="ca00ca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Француски лекар, физиолог и анатом, оснивач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експерименталне физологије у Француској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Сматра се идејним творцем експерименталне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фармакологиј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Син лекара, васпитаван по Русоовом педагошком рецепту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(акценат је на развоју независне личности), у 10. години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није знао да чита и пише, па се на сопствени захтев уписао у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основну школу. Његова изузетна радозналост и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интелигенција ускоро долазе до изражаја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Почетком 19. века у серији експеримената на животињама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проучава дејства новооткривених алкалоида: стрихнина,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морфина, бруцина, кодеина, кинина и вератрин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gency FB"/>
              </a:rPr>
              <a:t>„</a:t>
            </a:r>
            <a:r>
              <a:rPr b="1" lang="sr-CS" sz="1400" spc="-1" strike="noStrike">
                <a:solidFill>
                  <a:srgbClr val="000000"/>
                </a:solidFill>
                <a:latin typeface="Agency FB"/>
              </a:rPr>
              <a:t>На чињеницама и само на чињеницама се наука заснива</a:t>
            </a:r>
            <a:r>
              <a:rPr b="1" lang="en-GB" sz="1400" spc="-1" strike="noStrike">
                <a:solidFill>
                  <a:srgbClr val="000000"/>
                </a:solidFill>
                <a:latin typeface="Agency FB"/>
              </a:rPr>
              <a:t>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eef9c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buClr>
                <a:srgbClr val="000000"/>
              </a:buClr>
              <a:buFont typeface="Times New Roman"/>
              <a:buAutoNum type="arabicPeriod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ВЕК</a:t>
            </a:r>
            <a:br>
              <a:rPr sz="2800"/>
            </a:b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699d1d"/>
                </a:solidFill>
                <a:latin typeface="Times New Roman"/>
              </a:rPr>
              <a:t>Франсоа Маженди (1</a:t>
            </a:r>
            <a:r>
              <a:rPr b="1" lang="sr-Latn-CS" sz="2400" spc="-1" strike="noStrike">
                <a:solidFill>
                  <a:srgbClr val="699d1d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699d1d"/>
                </a:solidFill>
                <a:latin typeface="Times New Roman"/>
              </a:rPr>
              <a:t>83</a:t>
            </a:r>
            <a:r>
              <a:rPr b="1" lang="sr-CS" sz="2400" spc="-1" strike="noStrike">
                <a:solidFill>
                  <a:srgbClr val="699d1d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699d1d"/>
                </a:solidFill>
                <a:latin typeface="Times New Roman"/>
              </a:rPr>
              <a:t>– 18</a:t>
            </a:r>
            <a:r>
              <a:rPr b="1" lang="en-US" sz="2400" spc="-1" strike="noStrike">
                <a:solidFill>
                  <a:srgbClr val="699d1d"/>
                </a:solidFill>
                <a:latin typeface="Times New Roman"/>
              </a:rPr>
              <a:t>55</a:t>
            </a:r>
            <a:r>
              <a:rPr b="1" lang="sr-CS" sz="2400" spc="-1" strike="noStrike">
                <a:solidFill>
                  <a:srgbClr val="699d1d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У својим раним експерименталним радовима, упоређујући дејство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супстанци различитог ботаничког порекла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(Strycnhos tieute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пузавица са Јаве, садржи алкалоид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upas tieute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који се користио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за израду отровних стрелица)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, Nux vomica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Strychnos Ignatii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) открива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да различите биљне дроге могу имати исти активни принцип и да је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он одговоран за лековито или токсично дејство природних лекова.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1817. заједно са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P.J. Pelletir-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ом открива еметин, активни принцип ипекакуан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1819. ће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P.J. Pelletir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, захваљујући и Мажендијеовом раду, изоловати стрихнин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1822. потврђује рад шкотског физиолога Чарлса Бела и тако настај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Бел-Мажендијев закон (предњи коренови спиналних нерава садрж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само моторна а задњи само сензитивна влакна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У анатомији је средњи отвор на крову 4. мождане коморе назван по њему (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foramen Magendi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Magendie-Hertwig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-ов синдром је коса девијација очних јабучица удружена са церебралном лезијом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a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ç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is Magendie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(1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3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– 18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5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11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eef9c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99d1d"/>
                </a:solidFill>
                <a:latin typeface="Times New Roman"/>
              </a:rPr>
              <a:t>                  </a:t>
            </a:r>
            <a:r>
              <a:rPr b="1" lang="sr-CS" sz="2400" spc="-1" strike="noStrike">
                <a:solidFill>
                  <a:srgbClr val="699d1d"/>
                </a:solidFill>
                <a:latin typeface="Times New Roman"/>
              </a:rPr>
              <a:t>Франсоа Маженди (1</a:t>
            </a:r>
            <a:r>
              <a:rPr b="1" lang="sr-Latn-CS" sz="2400" spc="-1" strike="noStrike">
                <a:solidFill>
                  <a:srgbClr val="699d1d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699d1d"/>
                </a:solidFill>
                <a:latin typeface="Times New Roman"/>
              </a:rPr>
              <a:t>83</a:t>
            </a:r>
            <a:r>
              <a:rPr b="1" lang="sr-CS" sz="2400" spc="-1" strike="noStrike">
                <a:solidFill>
                  <a:srgbClr val="699d1d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699d1d"/>
                </a:solidFill>
                <a:latin typeface="Times New Roman"/>
              </a:rPr>
              <a:t>– 18</a:t>
            </a:r>
            <a:r>
              <a:rPr b="1" lang="en-US" sz="2400" spc="-1" strike="noStrike">
                <a:solidFill>
                  <a:srgbClr val="699d1d"/>
                </a:solidFill>
                <a:latin typeface="Times New Roman"/>
              </a:rPr>
              <a:t>55</a:t>
            </a:r>
            <a:r>
              <a:rPr b="1" lang="sr-CS" sz="2400" spc="-1" strike="noStrike">
                <a:solidFill>
                  <a:srgbClr val="699d1d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d3c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Сматра се да се фармакологија издвојила као засебна наука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184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 године, када је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Rudolf Buchhei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професор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Materia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medica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дијететике и историје медицине на Медицинском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факултету универзитета у Дорпату (садашња Естонија, тада руска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балтичка провинција) сопственим средствима, у приземљу своје куће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основао прву лабораторију за експерименталну фармакологију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Назив је одражавао његово убеђење да се фармакологија не своди само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на материју медику и да је потребно да, кроз експериментални рад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проучава дејства лекова и њихову примену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1849. је наименован за професора фармакологије а 1860. у Дорпату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оснива и први фармаколошки институт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Проучавао је дејства алкохола, хлороформа, магнезијум сулфата, беладоне, тешких метала...Заједно са својим сарадницима објавио је око 80 радова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Сматрао је да је испитивање лекова задатак фармаколога а не хемичара и фармацеут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Превео је на немачки приручник из фармакологије (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Jonathan Pereira: The Elements of Materia Medica and Therapeutics)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и унео новине у каласификацију лекова према фармаколошким дејствим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Освалд Шмидеберг је био његов ученик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ffddd5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gradFill rotWithShape="0">
            <a:gsLst>
              <a:gs pos="0">
                <a:srgbClr val="fee2e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buClr>
                <a:srgbClr val="000000"/>
              </a:buClr>
              <a:buFont typeface="Times New Roman"/>
              <a:buAutoNum type="arabicPeriod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000000"/>
              </a:buClr>
              <a:buFont typeface="Times New Roman"/>
              <a:buAutoNum type="arabicPeriod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ВЕК</a:t>
            </a:r>
            <a:br>
              <a:rPr sz="2800"/>
            </a:b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d60629"/>
                </a:solidFill>
                <a:latin typeface="Times New Roman"/>
              </a:rPr>
              <a:t>Rudolf Richard Buchheim</a:t>
            </a:r>
            <a:r>
              <a:rPr b="1" lang="sr-CS" sz="2400" spc="-1" strike="noStrike">
                <a:solidFill>
                  <a:srgbClr val="d60629"/>
                </a:solidFill>
                <a:latin typeface="Times New Roman"/>
              </a:rPr>
              <a:t> (18</a:t>
            </a:r>
            <a:r>
              <a:rPr b="1" lang="sr-Latn-CS" sz="2400" spc="-1" strike="noStrike">
                <a:solidFill>
                  <a:srgbClr val="d60629"/>
                </a:solidFill>
                <a:latin typeface="Times New Roman"/>
              </a:rPr>
              <a:t>20</a:t>
            </a:r>
            <a:r>
              <a:rPr b="1" lang="sr-CS" sz="2400" spc="-1" strike="noStrike">
                <a:solidFill>
                  <a:srgbClr val="d60629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d60629"/>
                </a:solidFill>
                <a:latin typeface="Times New Roman"/>
              </a:rPr>
              <a:t>– 18</a:t>
            </a:r>
            <a:r>
              <a:rPr b="1" lang="sr-CS" sz="2400" spc="-1" strike="noStrike">
                <a:solidFill>
                  <a:srgbClr val="d60629"/>
                </a:solidFill>
                <a:latin typeface="Times New Roman"/>
              </a:rPr>
              <a:t>7</a:t>
            </a:r>
            <a:r>
              <a:rPr b="1" lang="sr-Latn-CS" sz="2400" spc="-1" strike="noStrike">
                <a:solidFill>
                  <a:srgbClr val="d60629"/>
                </a:solidFill>
                <a:latin typeface="Times New Roman"/>
              </a:rPr>
              <a:t>9</a:t>
            </a:r>
            <a:r>
              <a:rPr b="1" lang="sr-CS" sz="2400" spc="-1" strike="noStrike">
                <a:solidFill>
                  <a:srgbClr val="d6062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solidFill>
            <a:srgbClr val="ffd4b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Глинена таблица из Месопотамије </a:t>
            </a: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(Универзитетски музеј у Пенсилваниј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9966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1400" spc="-1" strike="noStrike">
                <a:solidFill>
                  <a:srgbClr val="9c3400"/>
                </a:solidFill>
                <a:latin typeface="Times New Roman"/>
              </a:rPr>
              <a:t>Настала је крајем трећег миленијума п</a:t>
            </a:r>
            <a:r>
              <a:rPr b="1" lang="en-US" sz="1400" spc="-1" strike="noStrike">
                <a:solidFill>
                  <a:srgbClr val="9c3400"/>
                </a:solidFill>
                <a:latin typeface="Times New Roman"/>
              </a:rPr>
              <a:t>.</a:t>
            </a:r>
            <a:r>
              <a:rPr b="1" lang="sr-CS" sz="1400" spc="-1" strike="noStrike">
                <a:solidFill>
                  <a:srgbClr val="9c3400"/>
                </a:solidFill>
                <a:latin typeface="Times New Roman"/>
              </a:rPr>
              <a:t> н.</a:t>
            </a:r>
            <a:r>
              <a:rPr b="1" lang="en-US" sz="1400" spc="-1" strike="noStrike">
                <a:solidFill>
                  <a:srgbClr val="9c3400"/>
                </a:solidFill>
                <a:latin typeface="Times New Roman"/>
              </a:rPr>
              <a:t> </a:t>
            </a:r>
            <a:r>
              <a:rPr b="1" lang="sr-CS" sz="1400" spc="-1" strike="noStrike">
                <a:solidFill>
                  <a:srgbClr val="9c3400"/>
                </a:solidFill>
                <a:latin typeface="Times New Roman"/>
              </a:rPr>
              <a:t>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9c3400"/>
                </a:solidFill>
                <a:latin typeface="Times New Roman"/>
              </a:rPr>
              <a:t>	</a:t>
            </a:r>
            <a:r>
              <a:rPr b="1" lang="sr-CS" sz="1400" spc="-1" strike="noStrike">
                <a:solidFill>
                  <a:srgbClr val="9c3400"/>
                </a:solidFill>
                <a:latin typeface="Times New Roman"/>
              </a:rPr>
              <a:t>	</a:t>
            </a:r>
            <a:r>
              <a:rPr b="1" lang="sr-CS" sz="1400" spc="-1" strike="noStrike">
                <a:solidFill>
                  <a:srgbClr val="9c3400"/>
                </a:solidFill>
                <a:latin typeface="Times New Roman"/>
              </a:rPr>
              <a:t>	</a:t>
            </a:r>
            <a:r>
              <a:rPr b="1" lang="sr-CS" sz="1400" spc="-1" strike="noStrike">
                <a:solidFill>
                  <a:srgbClr val="9c3400"/>
                </a:solidFill>
                <a:latin typeface="Times New Roman"/>
              </a:rPr>
              <a:t>Садржи 15 рецепат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На овим најстаријим медицинским документима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описују се болести јетре, ока, респираторног система,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грозница и гонореја. Помињу се кокошије слепило,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отитис медиа, бубрежна калкулоза, шлог и шуга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Највећи број лекова у то време примењиваних био је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биљног порекла. Коришћени су тимијан, слачица, 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шљива, крушка, смоква, бор, врба, јела, бели лук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Биљним материјама је додавано пиво, вино или уље. Од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минералних материја предност су имали натријум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хлорид и калијум нитрат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Мада је омиљени начин примене лекова био облог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(мелем), описани су скоро сви облици лекова осим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инјекција: за оралну употербу, микстуре, инхалације,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масти, супозиторије, клизме..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2762280" y="285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0" y="0"/>
            <a:ext cx="9144000" cy="160020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9c3400"/>
                </a:solidFill>
                <a:latin typeface="Times New Roman"/>
              </a:rPr>
              <a:t>Глинена таблица из Нипура </a:t>
            </a:r>
            <a:br>
              <a:rPr sz="2400"/>
            </a:br>
            <a:r>
              <a:rPr b="0" lang="sr-CS" sz="2000" spc="-1" strike="noStrike">
                <a:solidFill>
                  <a:srgbClr val="9c3400"/>
                </a:solidFill>
                <a:latin typeface="Times New Roman"/>
              </a:rPr>
              <a:t>(Универзитетски музеј у Пенсилванији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0d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Освалд Шмидеберг се сматра оснивачем модерне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  фармакологије.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Buchheim-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ов студент, 1866. је докторирао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  (“Мерење хлороформа у крви”), а три године касније, по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Buchheim-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овом одласку из Дорпата, заузео његово место.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Тада је открио да мускарин изазива исте ефекте на срцу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  као и електрична стимулација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вагус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1872. постаје професор фармакологије у Стразбургу, где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  уз подршку немачке владе оснива чувени фармаколошки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  институт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Почетна проучавања обухватила су у то време најпознатије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  лекове и отрове (мускарин, никотин, гликозиде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  дигиталиса, тешке метале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Током вишегодишњег проучавања мукополисахарида и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  мукопротеина детаљно је обрадио састав хијалуронске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  киселине и њену везу са хондроитин сулфатом, колагеном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  и амилоидом. Објавио је преко 200 радов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0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fee2e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buClr>
                <a:srgbClr val="000000"/>
              </a:buClr>
              <a:buFont typeface="Times New Roman"/>
              <a:buAutoNum type="arabicPeriod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000000"/>
              </a:buClr>
              <a:buFont typeface="Times New Roman"/>
              <a:buAutoNum type="arabicPeriod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ВЕК</a:t>
            </a:r>
            <a:br>
              <a:rPr sz="2800"/>
            </a:b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d60629"/>
                </a:solidFill>
                <a:latin typeface="Times New Roman"/>
              </a:rPr>
              <a:t>Oswald Schmiedeberg </a:t>
            </a:r>
            <a:r>
              <a:rPr b="1" lang="sr-CS" sz="2400" spc="-1" strike="noStrike">
                <a:solidFill>
                  <a:srgbClr val="d60629"/>
                </a:solidFill>
                <a:latin typeface="Times New Roman"/>
              </a:rPr>
              <a:t>(18</a:t>
            </a:r>
            <a:r>
              <a:rPr b="1" lang="sr-Latn-CS" sz="2400" spc="-1" strike="noStrike">
                <a:solidFill>
                  <a:srgbClr val="d60629"/>
                </a:solidFill>
                <a:latin typeface="Times New Roman"/>
              </a:rPr>
              <a:t>38</a:t>
            </a:r>
            <a:r>
              <a:rPr b="1" lang="sr-CS" sz="2400" spc="-1" strike="noStrike">
                <a:solidFill>
                  <a:srgbClr val="d60629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d60629"/>
                </a:solidFill>
                <a:latin typeface="Times New Roman"/>
              </a:rPr>
              <a:t>– 1921</a:t>
            </a:r>
            <a:r>
              <a:rPr b="1" lang="sr-CS" sz="2400" spc="-1" strike="noStrike">
                <a:solidFill>
                  <a:srgbClr val="d6062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dad1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1885. уводи уретан као хипнотик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Његов уџбеник фармакологије прво је објављен у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Лајпцигу (1883). У наредних 40 година изашло је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8 издања. Превођен је више пута на енглески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језик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Током 46 година његовог рада стразбуршка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школа је дала око 150 будућих професора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фармакологије, који су оснивали фармаколошке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институте широм Немачке и другде у свету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Између осталих његови ученици били су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John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Jacob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Abel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Arthur Robertson Cushn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Освалд Шмидеберг је заслужан и за водећу улогу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немачке фармацеутске индустрије све до Другог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светског рат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gradFill rotWithShape="0">
            <a:gsLst>
              <a:gs pos="0">
                <a:srgbClr val="ffe0d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d60629"/>
                </a:solidFill>
                <a:latin typeface="Times New Roman"/>
              </a:rPr>
              <a:t>Oswald Schmiedeberg </a:t>
            </a:r>
            <a:r>
              <a:rPr b="1" lang="sr-CS" sz="2400" spc="-1" strike="noStrike">
                <a:solidFill>
                  <a:srgbClr val="d60629"/>
                </a:solidFill>
                <a:latin typeface="Times New Roman"/>
              </a:rPr>
              <a:t>(18</a:t>
            </a:r>
            <a:r>
              <a:rPr b="1" lang="sr-Latn-CS" sz="2400" spc="-1" strike="noStrike">
                <a:solidFill>
                  <a:srgbClr val="d60629"/>
                </a:solidFill>
                <a:latin typeface="Times New Roman"/>
              </a:rPr>
              <a:t>38</a:t>
            </a:r>
            <a:r>
              <a:rPr b="1" lang="sr-CS" sz="2400" spc="-1" strike="noStrike">
                <a:solidFill>
                  <a:srgbClr val="d60629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d60629"/>
                </a:solidFill>
                <a:latin typeface="Times New Roman"/>
              </a:rPr>
              <a:t>– 1921</a:t>
            </a:r>
            <a:r>
              <a:rPr b="1" lang="sr-CS" sz="2400" spc="-1" strike="noStrike">
                <a:solidFill>
                  <a:srgbClr val="d6062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0d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19. век су обележила и настојања научника да из сирових дрога изолују активне принципе у чистом облику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1803. француски хемичар </a:t>
            </a:r>
            <a:r>
              <a:rPr b="1" lang="sr-Latn-CS" sz="1400" spc="-1" strike="noStrike">
                <a:solidFill>
                  <a:srgbClr val="3333cc"/>
                </a:solidFill>
                <a:latin typeface="Times New Roman"/>
              </a:rPr>
              <a:t>C.L. Derosne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 је из опијума изоловао 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носкапин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1805. немачки фармацеут </a:t>
            </a:r>
            <a:r>
              <a:rPr b="1" lang="sr-Latn-CS" sz="1400" spc="-1" strike="noStrike">
                <a:solidFill>
                  <a:srgbClr val="3333cc"/>
                </a:solidFill>
                <a:latin typeface="Times New Roman"/>
              </a:rPr>
              <a:t>F.W. Sert</a:t>
            </a:r>
            <a:r>
              <a:rPr b="1" lang="sr-Latn-CS" sz="1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ü</a:t>
            </a:r>
            <a:r>
              <a:rPr b="1" lang="sr-Latn-CS" sz="1400" spc="-1" strike="noStrike">
                <a:solidFill>
                  <a:srgbClr val="3333cc"/>
                </a:solidFill>
                <a:latin typeface="Times New Roman"/>
              </a:rPr>
              <a:t>rner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је из опијума изоловао 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морфин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Дозу од 100 мг је тестирао на себи и своја три пријатеља – добили су тешко тровање опијумом. Горки,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бели кристални алкалоид назвао је по Морфусу, грчком богу сн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1817. </a:t>
            </a:r>
            <a:r>
              <a:rPr b="1" lang="sr-Latn-CS" sz="1400" spc="-1" strike="noStrike">
                <a:solidFill>
                  <a:srgbClr val="3333cc"/>
                </a:solidFill>
                <a:latin typeface="Times New Roman"/>
              </a:rPr>
              <a:t>Magendie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lang="sr-Latn-CS" sz="1400" spc="-1" strike="noStrike">
                <a:solidFill>
                  <a:srgbClr val="3333cc"/>
                </a:solidFill>
                <a:latin typeface="Times New Roman"/>
              </a:rPr>
              <a:t>P.J. Pelletir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 изолују 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еметин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 из ипекакуан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1818. француски фармацеути </a:t>
            </a:r>
            <a:r>
              <a:rPr b="1" lang="sr-Latn-CS" sz="1400" spc="-1" strike="noStrike">
                <a:solidFill>
                  <a:srgbClr val="3333cc"/>
                </a:solidFill>
                <a:latin typeface="Times New Roman"/>
              </a:rPr>
              <a:t>P.J. Pelletier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lang="sr-Latn-CS" sz="1400" spc="-1" strike="noStrike">
                <a:solidFill>
                  <a:srgbClr val="3333cc"/>
                </a:solidFill>
                <a:latin typeface="Times New Roman"/>
              </a:rPr>
              <a:t>J. Caventou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 изоловали су стрихнин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и бруцин из биљке 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nux vomica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, а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1820.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су из коре кининовца изоловали 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кинин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97.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хемичар 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Arthur Heffter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 је из мексичког кактуса (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Lophora williamsii)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изоловао мескалин.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У 19. веку је изведен први експеримент на изолованом органу у воденом купатилу; извео га је </a:t>
            </a:r>
            <a:r>
              <a:rPr b="1" lang="sr-CS" sz="1400" spc="-1" strike="noStrike">
                <a:solidFill>
                  <a:srgbClr val="3333cc"/>
                </a:solidFill>
                <a:latin typeface="Times New Roman"/>
              </a:rPr>
              <a:t>Хенрик Магнус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 на препарату танког црев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1849. немачки анатом </a:t>
            </a:r>
            <a:r>
              <a:rPr b="1" lang="sr-CS" sz="1400" spc="-1" strike="noStrike">
                <a:solidFill>
                  <a:srgbClr val="3333cc"/>
                </a:solidFill>
                <a:latin typeface="Times New Roman"/>
              </a:rPr>
              <a:t>Арнолд Бертхолд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 трансплантирао је ткиво тестиса кастрираном петлу и показао да је оно одговорно за раст кресте. Сличне технике користиће се у 20. веку за изолацију и испитивање дејства мушких полних хормон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1897. </a:t>
            </a:r>
            <a:r>
              <a:rPr b="1" lang="sr-CS" sz="1400" spc="-1" strike="noStrike">
                <a:solidFill>
                  <a:srgbClr val="3333cc"/>
                </a:solidFill>
                <a:latin typeface="Times New Roman"/>
              </a:rPr>
              <a:t>Феликс Хофман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 је синтетисао ацетилсалицилну киселину. Две године касније је регистрован аспирин. Механизам дејства ће му открити Џон Веин, 1971. године (Нобелова награда за медицину 198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gradFill rotWithShape="0">
            <a:gsLst>
              <a:gs pos="0">
                <a:srgbClr val="fedee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19.  ВЕК</a:t>
            </a:r>
            <a:br>
              <a:rPr sz="2800"/>
            </a:br>
            <a:br>
              <a:rPr sz="1400"/>
            </a:b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-360" y="1066320"/>
            <a:ext cx="9296280" cy="5791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0d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Развој фармакологије у 20. веку је импресиван (преко 20 научника је за своја открића из области фармакологије награђено Нобеловом наградом). Откривени су многи важни лекови, неуротрансмитери, рецептори, секундарни гласници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1903. немачки хемичар </a:t>
            </a:r>
            <a:r>
              <a:rPr b="0" lang="sr-CS" sz="1400" spc="-1" strike="noStrike">
                <a:solidFill>
                  <a:srgbClr val="3333cc"/>
                </a:solidFill>
                <a:latin typeface="Times New Roman"/>
              </a:rPr>
              <a:t>Е</a:t>
            </a:r>
            <a:r>
              <a:rPr b="0" lang="sr-Latn-CS" sz="1400" spc="-1" strike="noStrike">
                <a:solidFill>
                  <a:srgbClr val="3333cc"/>
                </a:solidFill>
                <a:latin typeface="Times New Roman"/>
              </a:rPr>
              <a:t>mil Fischer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 је од барбитурне киселине синтетисао први барбитурат, барбитон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Veronal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®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1910. </a:t>
            </a:r>
            <a:r>
              <a:rPr b="0" lang="sr-Latn-CS" sz="1400" spc="-1" strike="noStrike">
                <a:solidFill>
                  <a:srgbClr val="3333cc"/>
                </a:solidFill>
                <a:latin typeface="Times New Roman"/>
              </a:rPr>
              <a:t>Paul Ehrlich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 проналази салварсан, лек против сифилиса у раном стадијуму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1935. </a:t>
            </a:r>
            <a:r>
              <a:rPr b="0" lang="sr-Latn-CS" sz="1400" spc="-1" strike="noStrike">
                <a:solidFill>
                  <a:srgbClr val="3333cc"/>
                </a:solidFill>
                <a:latin typeface="Times New Roman"/>
              </a:rPr>
              <a:t>Gerhard Domagk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открива пронтозил (сулфонамид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1940. </a:t>
            </a:r>
            <a:r>
              <a:rPr b="0" lang="sr-Latn-CS" sz="1400" spc="-1" strike="noStrike">
                <a:solidFill>
                  <a:srgbClr val="3333cc"/>
                </a:solidFill>
                <a:latin typeface="Times New Roman"/>
              </a:rPr>
              <a:t>H. Florey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lang="sr-Latn-CS" sz="1400" spc="-1" strike="noStrike">
                <a:solidFill>
                  <a:srgbClr val="3333cc"/>
                </a:solidFill>
                <a:latin typeface="Times New Roman"/>
              </a:rPr>
              <a:t>E. Chain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, захваљујући открићу </a:t>
            </a:r>
            <a:r>
              <a:rPr b="0" lang="sr-CS" sz="1400" spc="-1" strike="noStrike">
                <a:solidFill>
                  <a:srgbClr val="3333cc"/>
                </a:solidFill>
                <a:latin typeface="Times New Roman"/>
              </a:rPr>
              <a:t>А. Флеминга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 из 1928, синтетишу пеницили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1943. </a:t>
            </a:r>
            <a:r>
              <a:rPr b="0" lang="sr-Latn-CS" sz="1400" spc="-1" strike="noStrike">
                <a:solidFill>
                  <a:srgbClr val="3333cc"/>
                </a:solidFill>
                <a:latin typeface="Times New Roman"/>
              </a:rPr>
              <a:t>Selman Waksman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открива стрептомици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1982. </a:t>
            </a:r>
            <a:r>
              <a:rPr b="0" lang="sr-Latn-CS" sz="1400" spc="-1" strike="noStrike">
                <a:solidFill>
                  <a:srgbClr val="3333cc"/>
                </a:solidFill>
                <a:latin typeface="Times New Roman"/>
              </a:rPr>
              <a:t>J.R. Vane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1400" spc="-1" strike="noStrike">
                <a:solidFill>
                  <a:srgbClr val="3333cc"/>
                </a:solidFill>
                <a:latin typeface="Times New Roman"/>
              </a:rPr>
              <a:t>S. Bergstrom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 и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1400" spc="-1" strike="noStrike">
                <a:solidFill>
                  <a:srgbClr val="3333cc"/>
                </a:solidFill>
                <a:latin typeface="Times New Roman"/>
              </a:rPr>
              <a:t>B. Samuelsson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 добили су Нобелову награду за откриће простагландин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1988.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 je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додељена Нобелова награда за откриће важних принципа у терапији лековима  </a:t>
            </a:r>
            <a:r>
              <a:rPr b="0" lang="sr-Latn-CS" sz="1400" spc="-1" strike="noStrike">
                <a:solidFill>
                  <a:srgbClr val="3333cc"/>
                </a:solidFill>
                <a:latin typeface="Times New Roman"/>
              </a:rPr>
              <a:t>Gertrudi Elion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lang="sr-Latn-CS" sz="1400" spc="-1" strike="noStrike">
                <a:solidFill>
                  <a:srgbClr val="3333cc"/>
                </a:solidFill>
                <a:latin typeface="Times New Roman"/>
              </a:rPr>
              <a:t>Georgu </a:t>
            </a:r>
            <a:r>
              <a:rPr b="0" lang="sr-CS" sz="1400" spc="-1" strike="noStrike">
                <a:solidFill>
                  <a:srgbClr val="3333cc"/>
                </a:solidFill>
                <a:latin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sr-Latn-CS" sz="1400" spc="-1" strike="noStrike">
                <a:solidFill>
                  <a:srgbClr val="3333cc"/>
                </a:solidFill>
                <a:latin typeface="Times New Roman"/>
              </a:rPr>
              <a:t>Hitchingsu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 (6-меркаптопурин, азатиоприн, алопуринол, пириметамин, триметоприм, ацикловир), као и </a:t>
            </a:r>
            <a:r>
              <a:rPr b="0" lang="sr-Latn-CS" sz="1400" spc="-1" strike="noStrike">
                <a:solidFill>
                  <a:srgbClr val="3333cc"/>
                </a:solidFill>
                <a:latin typeface="Times New Roman"/>
              </a:rPr>
              <a:t>Sir James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sr-Latn-CS" sz="1400" spc="-1" strike="noStrike">
                <a:solidFill>
                  <a:srgbClr val="3333cc"/>
                </a:solidFill>
                <a:latin typeface="Times New Roman"/>
              </a:rPr>
              <a:t>Blacku</a:t>
            </a:r>
            <a:r>
              <a:rPr b="0" lang="sr-CS" sz="1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(адренергички бета блокатори - пропранолол и блокатори хистаминских 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sr-Latn-C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рецептора -  циметидин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1994. </a:t>
            </a:r>
            <a:r>
              <a:rPr b="0" lang="sr-CS" sz="1400" spc="-1" strike="noStrike">
                <a:solidFill>
                  <a:srgbClr val="3333cc"/>
                </a:solidFill>
                <a:latin typeface="Times New Roman"/>
              </a:rPr>
              <a:t>Алфред Г. Гилман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sr-CS" sz="1400" spc="-1" strike="noStrike">
                <a:solidFill>
                  <a:srgbClr val="3333cc"/>
                </a:solidFill>
                <a:latin typeface="Times New Roman"/>
              </a:rPr>
              <a:t>Мартин Родбел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 поделиће Нобелову награду за откриће Г-протеина и њихове улоге у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преносу сигнала у ћелијам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marL="457200" indent="0" algn="ctr">
              <a:buNone/>
              <a:tabLst>
                <a:tab algn="l" pos="0"/>
                <a:tab algn="l" pos="3030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25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3030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3030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3030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20. век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0d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Пол Ерлих, немачки бактериолог, још као студент је развио нове технике бојења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ткива. Када је приметио да анилинске боје уништавају бактерије, испитивао им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је дејство на инфицираним експерименталним животињама (1891. метиленско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плаво на маларичној заморчади,  1904. трипанско црвено код мишева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заражених трипанозомијазом дали су добре резултате). Тако је започела ера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антиинфективних лекова (израз 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хемотерапија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 потиче од Ерлиха, и првобитно је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означавао способност неких хем. материја (“магични метак”)  да униште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паразите, без оштећења ћелија домаћина; исто значи и термин 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селективна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токсичност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Свој научни рад заснивао је на идеји да хемијска структура неке супстанце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одређује њено фармаколошко дејство, односно афинитет за одређене ћелиј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Развио је “теорију бочних  ланаца”, претпостављајући да ћелије имају бројне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“бочне ланце” (рецепторе) који им омогућавају да вежу и унесу хранљиве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материје из телесних течности, али да и бактеријски токсини делују преко њих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оштећујући ћелије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Током инфекције тело синтетише бројне “бочне ланце”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(антитела) који реагују са специфичним бактеријским токсином, спречавајући га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до допре до ћелија домаћина (Нобелова награда за рад у области имунологије,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1908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marL="457200" indent="0" algn="ctr">
              <a:buNone/>
              <a:tabLst>
                <a:tab algn="l" pos="0"/>
                <a:tab algn="l" pos="3030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20. век </a:t>
            </a:r>
            <a:br>
              <a:rPr sz="2800"/>
            </a:br>
            <a:br>
              <a:rPr sz="1400"/>
            </a:br>
            <a:r>
              <a:rPr b="1" lang="sr-Latn-CS" sz="2400" spc="-1" strike="noStrike">
                <a:solidFill>
                  <a:srgbClr val="3333cc"/>
                </a:solidFill>
                <a:latin typeface="Times New Roman"/>
              </a:rPr>
              <a:t>Paul Ehrlich (1854 – 191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0d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1878. је описао велике ћелије са базофилним гранулама и назвао их 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“mast cells”. 1879.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ј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открио еозинофиле у крв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Његов рад у области морфологије, физиологије и патологије крвних 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ћелија знатан је допринос развоју хематологиј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Изводећи бројне експерименте, како би створио високоделотворни 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дифтерични антитоксин и развио методе његове стандардизације, 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поставио је основе имунизациј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Како је у то време откривена бледа спирохета, узрочник сифилиса, 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Ерлих је одлучио да нађе лек против ње. Међу материјама раније 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тестираним, у друге сврхе, била је и једна, 606. по реду, једињење 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арсена, која је на сифилисом зараженим зечевима дала одличне 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резултате. Тек када је извео на стотине успешних експеримената, 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Ерлих је обелоданио откриће, назвавши га </a:t>
            </a: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salvarsan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 (1910).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Neosalvarsan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се појавио две године касније; био је најефикаснији лек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против сифилиса све до појаве пеницилин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3333cc"/>
                </a:solidFill>
                <a:latin typeface="Times New Roman"/>
              </a:rPr>
              <a:t>Ерлихово начело за успешно истраживање: стрпљење, способност, срећа и новац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marL="457200" indent="0" algn="ctr">
              <a:buNone/>
              <a:tabLst>
                <a:tab algn="l" pos="0"/>
                <a:tab algn="l" pos="3030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20. век </a:t>
            </a:r>
            <a:br>
              <a:rPr sz="2800"/>
            </a:br>
            <a:br>
              <a:rPr sz="1400"/>
            </a:br>
            <a:r>
              <a:rPr b="1" lang="sr-Latn-CS" sz="2400" spc="-1" strike="noStrike">
                <a:solidFill>
                  <a:srgbClr val="3333cc"/>
                </a:solidFill>
                <a:latin typeface="Times New Roman"/>
              </a:rPr>
              <a:t>Paul Ehrlich (1854 – 191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0d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Хенри Деил, енглески физолог, 1906. је пронашао да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екстракт ергота има симпатолитичко дејство, а 1911.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открива хистамин у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анималним ткивима. Проучавајући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његова дејства, долази до закључка да је одговоран за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одређене алергијске и анафилактичке реакциј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1914. изолује ацетилхолин. Открио је да се ослобађа из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нервних завршетака парасимпатикуса, тј. његову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неуротрансмитерску улогу.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Ово откриће ће му 1936. донети Нобелову награду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1921.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J. N. Langlay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објављује “Аутономни нервни систем” (први уводи тај термин да означи део нервног система одговорног за невољну и несвесну функцију унутрашњих органа). Од њега потичу и термини парасимпатички и ентерички нервни систем. Основао је и уређивао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Journal of Physiolog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marL="457200" indent="0" algn="ctr">
              <a:buNone/>
              <a:tabLst>
                <a:tab algn="l" pos="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20. ВЕК</a:t>
            </a:r>
            <a:br>
              <a:rPr sz="2800"/>
            </a:br>
            <a:br>
              <a:rPr sz="1400"/>
            </a:b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4be0"/>
                </a:solidFill>
                <a:latin typeface="Times New Roman"/>
              </a:rPr>
              <a:t>Sir Henry Dale (1875-1968) </a:t>
            </a:r>
            <a:r>
              <a:rPr b="1" lang="sr-CS" sz="2400" spc="-1" strike="noStrike">
                <a:solidFill>
                  <a:srgbClr val="004be0"/>
                </a:solidFill>
                <a:latin typeface="Times New Roman"/>
              </a:rPr>
              <a:t>и </a:t>
            </a:r>
            <a:r>
              <a:rPr b="1" lang="sr-Latn-CS" sz="2400" spc="-1" strike="noStrike">
                <a:solidFill>
                  <a:srgbClr val="004be0"/>
                </a:solidFill>
                <a:latin typeface="Times New Roman"/>
              </a:rPr>
              <a:t>Johannis Langley (1852-1925)</a:t>
            </a:r>
            <a:r>
              <a:rPr b="1" lang="sr-CS" sz="2400" spc="-1" strike="noStrike">
                <a:solidFill>
                  <a:srgbClr val="004be0"/>
                </a:solidFill>
                <a:latin typeface="Times New Roman"/>
              </a:rPr>
              <a:t>, пионири фармакологије у Енглеској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0d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Немачки лекар, поделио са Хенријем Деилом Нобелову награду за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медицину (1936) за открића у области неуротрансмисије. Његов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назив за ацетилхолин је 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vagusstoff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(материја која потиче од вагуса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1921. године, у Грацу, сањао је експеримент који ће му донети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славу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Ноћ уочи Ускрса сам се пробудио, укључио светло и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направио кратке белешке на неком папиру. Наставио сам да спавам.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Око 6 ујутро сетио сам се да сам забележио нешто важно, али су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белешке биле толико нечитке да нисам могао да их прочитам.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Следеће ноћи, у три сата, идеја ми се вратила. То је био експеримент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који би потврдио или оповргао моју хипотезу о хемијској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трансмисији коју сам поставио пре 17 година. Скочио сам и отишао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у лабораторију. Извео сам једноставан експеримент, експеримент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који сам уснио, на срцу жабе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marL="457200" indent="0" algn="ctr">
              <a:buNone/>
              <a:tabLst>
                <a:tab algn="l" pos="0"/>
                <a:tab algn="l" pos="3030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20. век </a:t>
            </a:r>
            <a:br>
              <a:rPr sz="2800"/>
            </a:br>
            <a:br>
              <a:rPr sz="2800"/>
            </a:br>
            <a:r>
              <a:rPr b="1" lang="sr-CS" sz="2400" spc="-1" strike="noStrike">
                <a:solidFill>
                  <a:srgbClr val="3333cc"/>
                </a:solidFill>
                <a:latin typeface="Times New Roman"/>
              </a:rPr>
              <a:t>О</a:t>
            </a:r>
            <a:r>
              <a:rPr b="1" lang="sr-Latn-CS" sz="2400" spc="-1" strike="noStrike">
                <a:solidFill>
                  <a:srgbClr val="3333cc"/>
                </a:solidFill>
                <a:latin typeface="Times New Roman"/>
              </a:rPr>
              <a:t>tto Loewi (1873 – 196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0d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Истраживања П. Ерлиха послужила су као основ за развој нових лекова из боја. Током 20-их година истраживачи у Бајеровим лабораторијама синтетисали су 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антималарике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 памакин (претечу примакина), мепакрин и резохин (крајем Другог светског рата синтетисан је и у Америци, под називом хлорокин). Почев од 17. века, када је кининовац у Европу донет из Јужне Америке, до 1930. маларија је лечена само кинином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3333cc"/>
                </a:solidFill>
                <a:latin typeface="Times New Roman"/>
              </a:rPr>
              <a:t>Gerhard Domagk (1895 – 196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Немачки бактериолог и патолог, инспирисан Ерлиховим радом,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тестира новооткривене боје и њихова дејства на микроорганизме.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1932. је објавио откриће да црвена боја, 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prontosil rubrum,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штити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мишеве и зечеве од леталних доза стафилокока и хемолитичког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стрептокока (за то откриће добио је Нобелову награду 1939, али му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Хитлер, увређен због доделе ове награде 1935. антинацисти, није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дозволио да је прими; чак је нареди да га гестапо затвори).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Пронтозил је био дериват 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сулфонамида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Лек ће у употребу ући од 1935 (после клиничког тестирања на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хуманим стрептококним инфекцијама). Интересантно је да га је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Domagk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применио одмах по откривању, на својој седмогодишњој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кћери (тешко оболелој од стрептококнеинфекције) и постигао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одличне резултате. Ипак, о томе није писао, чекајући потврду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клиничар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marL="457200" indent="0" algn="ctr">
              <a:buNone/>
              <a:tabLst>
                <a:tab algn="l" pos="0"/>
                <a:tab algn="l" pos="3030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20. век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0d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Антибиотици су пронађени пре сулфонамида, само 10 година нико није био заинтересован за то откриће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3333cc"/>
                </a:solidFill>
                <a:latin typeface="Times New Roman"/>
              </a:rPr>
              <a:t>Луј Пастер (1822 – 189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Још је Луј Пастер, средином 19. века, приметио антагонизам између антракса и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других бактерија, и претпоставио да је та појава значајна за медицину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3333cc"/>
                </a:solidFill>
                <a:latin typeface="Times New Roman"/>
              </a:rPr>
              <a:t>Александар Флеминг (1881 – 195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1928. шкотски бактериолог, Александар Флеминг, оставио је своју лабораториј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при болници 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St. Mary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 (Лондон) у нереду, и отишао на годишњи одмор. Када с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вратио, затекао је плесан у непокривеним петри-шољама, засејаним стафилококом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натрпаним у лавабоу. Ново је било то што је између бактеријске културе и плаво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зелене плесни био празан простор. Флеминг је схватио да је нешто из 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Penicillium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notatuma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 уништило стафилококе. Плесан је гајио на хлебу, филтрирао и тај филтра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назвао 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пеницилин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. Описао га је 1929. у чланку “Антибактеријско деловање култур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пеницилијума” као антисептик, делотворнији од фенола, безопасан за жива ткив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0" lang="sr-CS" sz="1400" spc="-1" strike="noStrike">
                <a:solidFill>
                  <a:srgbClr val="3333cc"/>
                </a:solidFill>
                <a:latin typeface="Times New Roman"/>
              </a:rPr>
              <a:t>Понекад се нешто и случајно открије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3030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20. век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9966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c34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9c34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9c3400"/>
                </a:solidFill>
                <a:latin typeface="Times New Roman"/>
              </a:rPr>
              <a:t>	</a:t>
            </a:r>
            <a:r>
              <a:rPr b="1" lang="sr-CS" sz="1600" spc="-1" strike="noStrike">
                <a:solidFill>
                  <a:srgbClr val="5d6465"/>
                </a:solidFill>
                <a:latin typeface="Times New Roman"/>
              </a:rPr>
              <a:t>Глинена таблица из библиотеке асиријског краља </a:t>
            </a:r>
            <a:r>
              <a:rPr b="1" lang="en-US" sz="1600" spc="-1" strike="noStrike">
                <a:solidFill>
                  <a:srgbClr val="5d6465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5d6465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5d6465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5d6465"/>
                </a:solidFill>
                <a:latin typeface="Times New Roman"/>
              </a:rPr>
              <a:t>	</a:t>
            </a:r>
            <a:r>
              <a:rPr b="1" lang="sr-CS" sz="1600" spc="-1" strike="noStrike">
                <a:solidFill>
                  <a:srgbClr val="5d6465"/>
                </a:solidFill>
                <a:latin typeface="Times New Roman"/>
              </a:rPr>
              <a:t>Асурбанипала у Ниниви (7. век п</a:t>
            </a:r>
            <a:r>
              <a:rPr b="1" lang="en-US" sz="1600" spc="-1" strike="noStrike">
                <a:solidFill>
                  <a:srgbClr val="5d6465"/>
                </a:solidFill>
                <a:latin typeface="Times New Roman"/>
              </a:rPr>
              <a:t>.</a:t>
            </a:r>
            <a:r>
              <a:rPr b="1" lang="sr-CS" sz="1600" spc="-1" strike="noStrike">
                <a:solidFill>
                  <a:srgbClr val="5d6465"/>
                </a:solidFill>
                <a:latin typeface="Times New Roman"/>
              </a:rPr>
              <a:t> н.</a:t>
            </a:r>
            <a:r>
              <a:rPr b="1" lang="en-US" sz="1600" spc="-1" strike="noStrike">
                <a:solidFill>
                  <a:srgbClr val="5d6465"/>
                </a:solidFill>
                <a:latin typeface="Times New Roman"/>
              </a:rPr>
              <a:t> </a:t>
            </a:r>
            <a:r>
              <a:rPr b="1" lang="sr-CS" sz="1600" spc="-1" strike="noStrike">
                <a:solidFill>
                  <a:srgbClr val="5d6465"/>
                </a:solidFill>
                <a:latin typeface="Times New Roman"/>
              </a:rPr>
              <a:t>е.)</a:t>
            </a:r>
            <a:br>
              <a:rPr sz="1600"/>
            </a:br>
            <a:r>
              <a:rPr b="1" lang="en-US" sz="1600" spc="-1" strike="noStrike">
                <a:solidFill>
                  <a:srgbClr val="5d6465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5d6465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5d6465"/>
                </a:solidFill>
                <a:latin typeface="Times New Roman"/>
              </a:rPr>
              <a:t>(Британски музеј у Лондону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У овој библотеци налазила се и најстарија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“фармакопеја” са око 120 лекова минералног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порекла и 250 лековитих материја биљног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порекла, међу којима су и рицинус, нана, шафран,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конопља, опијум, бели лук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9"/>
          <p:cNvSpPr/>
          <p:nvPr/>
        </p:nvSpPr>
        <p:spPr>
          <a:xfrm>
            <a:off x="0" y="0"/>
            <a:ext cx="9144000" cy="190512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ДРЕВНЕ ЦИВИЛИЗАЦИЈЕ</a:t>
            </a:r>
            <a:br>
              <a:rPr sz="2800"/>
            </a:br>
            <a:br>
              <a:rPr sz="2800"/>
            </a:br>
            <a:r>
              <a:rPr b="1" lang="sr-CS" sz="2800" spc="-1" strike="noStrike">
                <a:solidFill>
                  <a:srgbClr val="5d6465"/>
                </a:solidFill>
                <a:latin typeface="Times New Roman"/>
              </a:rPr>
              <a:t>АСИРИЈ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0d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1939. године на Оксфорду,  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Howard Florey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, патолог из Аустралије, почиње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интезивно да истражује Флемингову плесан. Главни сарадник био му је 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Ernst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Chain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, немачки хемичар, који је у Енглеску дошао бежећи од нациста. Пројекат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је финансирала Рокфелерова фондација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У пролеће 1940. из 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Penicilliuma notatuma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 су ектраховали први узорак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пеницилина, који је био милион пута јачи од Флеминговог филтрата. На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експериментима на мишевима потврдили су високу делотворност и ниску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токсичност пеницилин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33cc"/>
                </a:solidFill>
                <a:latin typeface="Times New Roman"/>
              </a:rPr>
              <a:t>Howard Florey (1898 – 196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У лабораторијама Оксфорда произведено је довољно пеницилина за мало клиничк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испитивање; тако је 1941. постало јасно колико је драгоцен. Због ратних услова ниј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се могао производити у Британији и покренута је производња у САД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!945. Флеминг, Флореи и Чеин добили су Нобелову награду за откриће пеницилин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sr-Latn-C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sr-Latn-C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sr-Latn-C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sr-Latn-C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sr-Latn-C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sr-Latn-C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sr-Latn-C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sr-Latn-CS" sz="1800" spc="-1" strike="noStrike">
                <a:solidFill>
                  <a:srgbClr val="3333cc"/>
                </a:solidFill>
                <a:latin typeface="Times New Roman"/>
              </a:rPr>
              <a:t>Ernst Chain (1906 – 197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marL="457200" indent="0" algn="ctr">
              <a:buNone/>
              <a:tabLst>
                <a:tab algn="l" pos="0"/>
                <a:tab algn="l" pos="3030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20. век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0d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Пеницилин није деловао на изазиваче туберкулозе. 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Selman Waksman,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руски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јеврејин (емигрирао у САД), микробиолог, упорно је тражио “пријатељске”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микроорганизме, који би били делотворни. Заједно са својим студентима, на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Универзитету у Њу Џерсију, испитао је више од 10 000 култура, пореклом из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земље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1943. његов студент, Алберт Шац, из земље узете са добро ђубрене оранице и из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грла оболелих пилића, изоловао је бактерију 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Streptomyces griseus.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Антибиотик из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ње изолован био је делотворан против грам-негативних бацила и изазивача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туберкулозе. Добио је име 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стрептомицин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У мају следеће године, лекари са Мајо клинике у Рочестеру, први пут су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применили нови лек. Младој болесници већ је било одстрањено једно плућно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крило, а друго начето туберкулозом. Стрептомицин јој је спасао живот..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1952. је његовом проналазачу додељена Нобелова наград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1953. 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Waksman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уводи термин 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антибиотици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: “...материје које стварају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микроорганизми и које могу успорити раст или уништити друге микроорганизме 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и у великим разблажењима”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marL="457200" indent="0" algn="ctr">
              <a:buNone/>
              <a:tabLst>
                <a:tab algn="l" pos="0"/>
                <a:tab algn="l" pos="3030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20. век</a:t>
            </a:r>
            <a:br>
              <a:rPr sz="2800"/>
            </a:br>
            <a:br>
              <a:rPr sz="1400"/>
            </a:br>
            <a:r>
              <a:rPr b="1" lang="sr-Latn-CS" sz="2400" spc="-1" strike="noStrike">
                <a:solidFill>
                  <a:srgbClr val="3333cc"/>
                </a:solidFill>
                <a:latin typeface="Times New Roman"/>
              </a:rPr>
              <a:t>Selman Waksman (1888 – 1973)</a:t>
            </a:r>
            <a:r>
              <a:rPr b="1" lang="sr-C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gradFill rotWithShape="0">
            <a:gsLst>
              <a:gs pos="0">
                <a:srgbClr val="ffff9d"/>
              </a:gs>
              <a:gs pos="100000">
                <a:srgbClr val="ffe57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На зидовима мале просторије у задњем делу храма (тзв. Фестивалске дворане) уклесане су слике биљака и животиња донесених из Сирије, после ратних похода.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2390760" y="17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gradFill rotWithShape="0">
            <a:gsLst>
              <a:gs pos="0">
                <a:srgbClr val="ffe885"/>
              </a:gs>
              <a:gs pos="100000">
                <a:srgbClr val="ffffab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767300"/>
                </a:solidFill>
                <a:latin typeface="Times New Roman"/>
              </a:rPr>
              <a:t>“</a:t>
            </a:r>
            <a:r>
              <a:rPr b="1" lang="sr-CS" sz="2400" spc="-1" strike="noStrike">
                <a:solidFill>
                  <a:srgbClr val="767300"/>
                </a:solidFill>
                <a:latin typeface="Times New Roman"/>
              </a:rPr>
              <a:t>Ботаничка башта” у храму Тутмеса </a:t>
            </a:r>
            <a:r>
              <a:rPr b="1" lang="en-US" sz="2400" spc="-1" strike="noStrike">
                <a:solidFill>
                  <a:srgbClr val="767300"/>
                </a:solidFill>
                <a:latin typeface="Times New Roman"/>
              </a:rPr>
              <a:t>III</a:t>
            </a:r>
            <a:r>
              <a:rPr b="1" lang="sr-CS" sz="2400" spc="-1" strike="noStrike">
                <a:solidFill>
                  <a:srgbClr val="767300"/>
                </a:solidFill>
                <a:latin typeface="Times New Roman"/>
              </a:rPr>
              <a:t> у Карнаку</a:t>
            </a:r>
            <a:br>
              <a:rPr sz="2400"/>
            </a:br>
            <a:r>
              <a:rPr b="1" lang="sr-CS" sz="2400" spc="-1" strike="noStrike">
                <a:solidFill>
                  <a:srgbClr val="7673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767300"/>
                </a:solidFill>
                <a:latin typeface="Times New Roman"/>
              </a:rPr>
              <a:t>(16. век п. н. е., Египат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gradFill rotWithShape="0">
            <a:gsLst>
              <a:gs pos="0">
                <a:srgbClr val="ffff9f"/>
              </a:gs>
              <a:gs pos="100000">
                <a:srgbClr val="ffeb95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Амерички трговац антиквитетима, Едвин Смит,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1862. год. у Луксору од Мустафа аге купује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оштећени папирус. Два месеца касније купује и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другу ролну, знајући да се не ради о оригиналу, и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спаја их. 1906. год. његова ћерка папирус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поклања Друштву историчара Њујорка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Значај овог медицинског документа открио је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Џејмс Брестед, директор Института за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оријенталистику чикашког универзитета, када је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193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 године превео хијероглифе.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По њему, овај папирус је копија древног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манускрипта – оригиналног текста (3000 – 2500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год. п. н.е.) и коментара у виду 69 бележака на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маргинама, написаних много касније (17. век п.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н. е.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ffeb95"/>
              </a:gs>
              <a:gs pos="100000">
                <a:srgbClr val="ffffa7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767300"/>
                </a:solidFill>
                <a:latin typeface="Times New Roman"/>
              </a:rPr>
              <a:t>Едвин Смитов папирус, хијероглифи</a:t>
            </a:r>
            <a:br>
              <a:rPr sz="2400"/>
            </a:br>
            <a:r>
              <a:rPr b="0" lang="sr-CS" sz="2000" spc="-1" strike="noStrike">
                <a:solidFill>
                  <a:srgbClr val="767300"/>
                </a:solidFill>
                <a:latin typeface="Times New Roman"/>
              </a:rPr>
              <a:t>(Медицинска академија у Њујорку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gradFill rotWithShape="0">
            <a:gsLst>
              <a:gs pos="0">
                <a:srgbClr val="ffffab"/>
              </a:gs>
              <a:gs pos="100000">
                <a:srgbClr val="ffe4a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Едвин Смитов папирус је дуг око 5 метара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У њему је описано 48 хируршких случајева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(повреде главе, врата, рамена, торакса). Осим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клиничке слике, код сваког од њих описан је и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преглед, дијагноза и терапија. Рационалне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хируршке интервенције су много заступљеније од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магије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Садржи и најстарији опис карцинома (мушке дојке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ffe885"/>
              </a:gs>
              <a:gs pos="100000">
                <a:srgbClr val="ffffa3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767300"/>
                </a:solidFill>
                <a:latin typeface="Times New Roman"/>
              </a:rPr>
              <a:t>Едвин Смитов папирус</a:t>
            </a:r>
            <a:br>
              <a:rPr sz="2400"/>
            </a:br>
            <a:r>
              <a:rPr b="0" lang="sr-CS" sz="2000" spc="-1" strike="noStrike">
                <a:solidFill>
                  <a:srgbClr val="767300"/>
                </a:solidFill>
                <a:latin typeface="Times New Roman"/>
              </a:rPr>
              <a:t>(Медицинска академија у Њујорку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0" y="1523520"/>
            <a:ext cx="9144000" cy="5715000"/>
          </a:xfrm>
          <a:prstGeom prst="rect">
            <a:avLst/>
          </a:prstGeom>
          <a:gradFill rotWithShape="0">
            <a:gsLst>
              <a:gs pos="0">
                <a:srgbClr val="ffffab"/>
              </a:gs>
              <a:gs pos="100000">
                <a:srgbClr val="ffec9d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Еберсов папирус је пореклом из Тебе и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настао је средином 16. века п. н.е. Дуг је око 20      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метара и широк 30 цм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И њега је 1862. купио у Луксору Едвин Смит.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Речено је да је нађен између ногу мумије,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највероватније у гробници лекар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Име је добио по Џорџу Еберсу, немачком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египтологу и писцу, који га је откупио 1873.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годин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Неоштећен, сматра се најважнијим од древних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медицинских докумената. На 110 страна садржи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877 рецепата и помиње око 700 лековитих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супстанција. Међу њима су рицинус, мирођија,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сена, тимијан, кана, смрека, алоја, канабис,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опијум, коријандер, ким, бели лук.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gradFill rotWithShape="0">
            <a:gsLst>
              <a:gs pos="0">
                <a:srgbClr val="ffeb95"/>
              </a:gs>
              <a:gs pos="100000">
                <a:srgbClr val="ffffa3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767300"/>
                </a:solidFill>
                <a:latin typeface="Times New Roman"/>
              </a:rPr>
              <a:t>Еберсов папирус </a:t>
            </a:r>
            <a:br>
              <a:rPr sz="2400"/>
            </a:br>
            <a:r>
              <a:rPr b="0" lang="sr-CS" sz="2000" spc="-1" strike="noStrike">
                <a:solidFill>
                  <a:srgbClr val="767300"/>
                </a:solidFill>
                <a:latin typeface="Times New Roman"/>
              </a:rPr>
              <a:t>(Универзитетски музеј у Лајпцигу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7T12:03:40Z</dcterms:created>
  <dc:creator>PAKOM</dc:creator>
  <dc:description/>
  <dc:language>en-US</dc:language>
  <cp:lastModifiedBy>Marina Kostic</cp:lastModifiedBy>
  <dcterms:modified xsi:type="dcterms:W3CDTF">2023-08-29T10:35:32Z</dcterms:modified>
  <cp:revision>138</cp:revision>
  <dc:subject/>
  <dc:title>PowerPoint Presentation</dc:title>
</cp:coreProperties>
</file>